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png" ContentType="image/png"/>
  <Override PartName="/ppt/media/image28.jpeg" ContentType="image/jpeg"/>
  <Override PartName="/ppt/media/image20.png" ContentType="image/png"/>
  <Override PartName="/ppt/media/image7.jpeg" ContentType="image/jpeg"/>
  <Override PartName="/ppt/media/image11.png" ContentType="image/png"/>
  <Override PartName="/ppt/media/image8.wmf" ContentType="image/x-wmf"/>
  <Override PartName="/ppt/media/image13.png" ContentType="image/png"/>
  <Override PartName="/ppt/media/image9.png" ContentType="image/png"/>
  <Override PartName="/ppt/media/image29.jpeg" ContentType="image/jpeg"/>
  <Override PartName="/ppt/media/image5.png" ContentType="image/png"/>
  <Override PartName="/ppt/media/image1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png" ContentType="image/png"/>
  <Override PartName="/ppt/media/image33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4.png" ContentType="image/png"/>
  <Override PartName="/ppt/media/image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21.png" ContentType="image/png"/>
  <Override PartName="/ppt/media/image22.wmf" ContentType="image/x-wmf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1640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4772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44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1640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4772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17120" y="320760"/>
            <a:ext cx="81536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1640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4772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1640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4772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17120" y="320760"/>
            <a:ext cx="81536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1" marL="609480" indent="-609480">
              <a:spcBef>
                <a:spcPts val="7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2" marL="609480" indent="-609480">
              <a:spcBef>
                <a:spcPts val="799"/>
              </a:spcBef>
              <a:buClr>
                <a:srgbClr val="003399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3" marL="609480" indent="-609480">
              <a:spcBef>
                <a:spcPts val="799"/>
              </a:spcBef>
              <a:buClr>
                <a:srgbClr val="003399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4" marL="609480" indent="-609480">
              <a:spcBef>
                <a:spcPts val="799"/>
              </a:spcBef>
              <a:buClr>
                <a:srgbClr val="003399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5" marL="609480" indent="-609480">
              <a:spcBef>
                <a:spcPts val="799"/>
              </a:spcBef>
              <a:buClr>
                <a:srgbClr val="000099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6" marL="609480" indent="-609480">
              <a:spcBef>
                <a:spcPts val="799"/>
              </a:spcBef>
              <a:buClr>
                <a:srgbClr val="000099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" name=""/>
          <p:cNvSpPr/>
          <p:nvPr/>
        </p:nvSpPr>
        <p:spPr>
          <a:xfrm>
            <a:off x="2946240" y="6504120"/>
            <a:ext cx="44182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NuFact 05 J.E Campagne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929280" y="6486480"/>
            <a:ext cx="2062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9C51-6B57-47D9-8F0F-741BF5F1AD49}" type="slidenum">
              <a:rPr b="0" lang="en-US" sz="1400" spc="-1" strike="noStrike">
                <a:solidFill>
                  <a:srgbClr val="003399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9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304920"/>
            <a:ext cx="7086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76520" y="563400"/>
            <a:ext cx="609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31008" t="3125" r="60141" b="3125"/>
          <a:stretch/>
        </p:blipFill>
        <p:spPr>
          <a:xfrm>
            <a:off x="0" y="0"/>
            <a:ext cx="5968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093080" y="152280"/>
            <a:ext cx="1670040" cy="658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nf.infn.it/conference/2005/nufact05/NUFACT05_poster_big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789120"/>
            <a:ext cx="9144000" cy="55940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63880" y="2160360"/>
            <a:ext cx="3262320" cy="89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Comic Sans MS"/>
              </a:rPr>
              <a:t>SPL</a:t>
            </a: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n-GB" sz="4000" spc="-1" strike="noStrike">
                <a:solidFill>
                  <a:srgbClr val="003399"/>
                </a:solidFill>
                <a:latin typeface="Comic Sans MS"/>
              </a:rPr>
              <a:t>Fréjus</a:t>
            </a:r>
            <a:endParaRPr b="0" lang="en-US" sz="40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46280" y="3368520"/>
            <a:ext cx="7696080" cy="183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Monotype Corsiva"/>
              </a:rPr>
              <a:t>J-E Campagn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Linear Accelerator Laboratory – Orsay – France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99"/>
                </a:solidFill>
                <a:latin typeface="Comic Sans MS"/>
              </a:rPr>
              <a:t>Thanks: A. Cazes, M. Mezzetto, Th. Schwetz</a:t>
            </a: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99"/>
                </a:solidFill>
                <a:latin typeface="Comic Sans MS"/>
              </a:rPr>
              <a:t>              </a:t>
            </a:r>
            <a:r>
              <a:rPr b="0" lang="en-GB" sz="1400" spc="-1" strike="noStrike">
                <a:solidFill>
                  <a:srgbClr val="003399"/>
                </a:solidFill>
                <a:latin typeface="Comic Sans MS"/>
              </a:rPr>
              <a:t>and the GLoBES team </a:t>
            </a: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99"/>
                </a:solidFill>
                <a:latin typeface="Comic Sans MS"/>
              </a:rPr>
              <a:t>              </a:t>
            </a:r>
            <a:r>
              <a:rPr b="0" lang="en-GB" sz="1400" spc="-1" strike="noStrike">
                <a:solidFill>
                  <a:srgbClr val="003399"/>
                </a:solidFill>
                <a:latin typeface="Comic Sans MS"/>
              </a:rPr>
              <a:t>and AM Lombardi, R. Garoby</a:t>
            </a: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Horn design parameter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657600" y="1128600"/>
            <a:ext cx="4876920" cy="2287800"/>
            <a:chOff x="3657600" y="1128600"/>
            <a:chExt cx="4876920" cy="2287800"/>
          </a:xfrm>
        </p:grpSpPr>
        <p:pic>
          <p:nvPicPr>
            <p:cNvPr id="256" name="" descr=""/>
            <p:cNvPicPr/>
            <p:nvPr/>
          </p:nvPicPr>
          <p:blipFill>
            <a:blip r:embed="rId1"/>
            <a:stretch/>
          </p:blipFill>
          <p:spPr>
            <a:xfrm>
              <a:off x="3657600" y="1128600"/>
              <a:ext cx="4876920" cy="22845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257" name=""/>
            <p:cNvSpPr/>
            <p:nvPr/>
          </p:nvSpPr>
          <p:spPr>
            <a:xfrm>
              <a:off x="4038480" y="3195720"/>
              <a:ext cx="3810240" cy="2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962520" y="3048120"/>
              <a:ext cx="23619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700520" y="304812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99"/>
                  </a:solidFill>
                  <a:latin typeface="Arial"/>
                </a:rPr>
                <a:t>140 cm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033800" y="3289320"/>
              <a:ext cx="3886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553080" y="304812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99"/>
                  </a:solidFill>
                  <a:latin typeface="Arial"/>
                </a:rPr>
                <a:t>220 cm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924680" y="2014560"/>
              <a:ext cx="609840" cy="88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001000" y="1276200"/>
              <a:ext cx="0" cy="1549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95000" y="1719360"/>
              <a:ext cx="686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99"/>
                  </a:solidFill>
                  <a:latin typeface="Arial"/>
                </a:rPr>
                <a:t>80 cm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aphicFrame>
        <p:nvGraphicFramePr>
          <p:cNvPr id="265" name=""/>
          <p:cNvGraphicFramePr/>
          <p:nvPr/>
        </p:nvGraphicFramePr>
        <p:xfrm>
          <a:off x="6548400" y="3673440"/>
          <a:ext cx="2438280" cy="2679840"/>
        </p:xfrm>
        <a:graphic>
          <a:graphicData uri="http://schemas.openxmlformats.org/drawingml/2006/table">
            <a:tbl>
              <a:tblPr/>
              <a:tblGrid>
                <a:gridCol w="1487520"/>
                <a:gridCol w="95076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HORN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inner radius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3.4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neck length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40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outer radius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0.5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otal length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40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REFLECTOR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outer radius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40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otal length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20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"/>
          <p:cNvSpPr/>
          <p:nvPr/>
        </p:nvSpPr>
        <p:spPr>
          <a:xfrm>
            <a:off x="4006800" y="4441680"/>
            <a:ext cx="1773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~300MeV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~800MeV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3920" y="1487520"/>
            <a:ext cx="311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ductor thickness : 3mm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horn : 300kAmp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eflector : 600kAmp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hallenging!!!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663480" y="4097160"/>
            <a:ext cx="2836800" cy="17701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74640" y="5689440"/>
            <a:ext cx="27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Using Geant 3.2.1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5600" y="6081840"/>
            <a:ext cx="218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Fact-Note 138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73080" y="3594240"/>
            <a:ext cx="4572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Drawing from the horn built at CER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Optimized for Super Beam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90080" y="5338800"/>
            <a:ext cx="41292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+ or - focusin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Decay Tunnel Parameter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83960" y="1143000"/>
            <a:ext cx="423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Length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lvl="1" marL="960840" indent="-5173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modify purity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60840" indent="-5173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L=10m, 20m, 40m and 60m have been tested.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60840" indent="-5173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10m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40m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2" marL="1330200" indent="-44316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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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+ 50% to 70%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2" marL="1330200" indent="-44316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Comic Sans MS"/>
              </a:rPr>
              <a:t>e 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Comic Sans MS"/>
              </a:rPr>
              <a:t>e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+ 50% to 100%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60840" indent="-5173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40m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60m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2" marL="1330200" indent="-44316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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+ 5%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2" marL="1330200" indent="-44316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Comic Sans MS"/>
              </a:rPr>
              <a:t>e 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Comic Sans MS"/>
              </a:rPr>
              <a:t>e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+ 20%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40m seems better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84600" y="1155600"/>
            <a:ext cx="4346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Radius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modify acceptanc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R=1m, 1.5m and 2m have been Tested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1m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2m 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(L=40)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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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+50%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Comic Sans MS"/>
              </a:rPr>
              <a:t>e 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Comic Sans MS"/>
              </a:rPr>
              <a:t>e 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+50% to 70%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Larger is better (2m)…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6" name=""/>
          <p:cNvSpPr/>
          <p:nvPr/>
        </p:nvSpPr>
        <p:spPr>
          <a:xfrm>
            <a:off x="4797360" y="4925880"/>
            <a:ext cx="3311640" cy="16578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This results have been checked on sensitivity to </a:t>
            </a:r>
            <a:r>
              <a:rPr b="0" lang="en-GB" sz="24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Tahoma"/>
              </a:rPr>
              <a:t>13</a:t>
            </a: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 and </a:t>
            </a:r>
            <a:r>
              <a:rPr b="0" lang="en-GB" sz="2400" spc="-1" strike="noStrike">
                <a:solidFill>
                  <a:srgbClr val="000099"/>
                </a:solidFill>
                <a:latin typeface="Symbol"/>
                <a:ea typeface="Symbol"/>
              </a:rPr>
              <a:t>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Tahoma"/>
              </a:rPr>
              <a:t>CP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28640" y="3765600"/>
            <a:ext cx="163800" cy="0"/>
          </a:xfrm>
          <a:prstGeom prst="line">
            <a:avLst/>
          </a:prstGeom>
          <a:ln w="3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41600" y="4159080"/>
            <a:ext cx="163440" cy="0"/>
          </a:xfrm>
          <a:prstGeom prst="line">
            <a:avLst/>
          </a:prstGeom>
          <a:ln w="3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11360" y="4944960"/>
            <a:ext cx="163440" cy="0"/>
          </a:xfrm>
          <a:prstGeom prst="line">
            <a:avLst/>
          </a:prstGeom>
          <a:ln w="3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623960" y="5307120"/>
            <a:ext cx="163440" cy="0"/>
          </a:xfrm>
          <a:prstGeom prst="line">
            <a:avLst/>
          </a:prstGeom>
          <a:ln w="3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6008760" y="3435480"/>
            <a:ext cx="214200" cy="355320"/>
            <a:chOff x="6008760" y="3435480"/>
            <a:chExt cx="214200" cy="355320"/>
          </a:xfrm>
        </p:grpSpPr>
        <p:sp>
          <p:nvSpPr>
            <p:cNvPr id="282" name=""/>
            <p:cNvSpPr/>
            <p:nvPr/>
          </p:nvSpPr>
          <p:spPr>
            <a:xfrm>
              <a:off x="6008760" y="3435480"/>
              <a:ext cx="163440" cy="0"/>
            </a:xfrm>
            <a:prstGeom prst="line">
              <a:avLst/>
            </a:prstGeom>
            <a:ln w="3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59520" y="3790800"/>
              <a:ext cx="163440" cy="0"/>
            </a:xfrm>
            <a:prstGeom prst="line">
              <a:avLst/>
            </a:prstGeom>
            <a:ln w="3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733320" y="985680"/>
            <a:ext cx="5276880" cy="54691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Fluxes comparison @ 130km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3225600" y="4348080"/>
            <a:ext cx="6191280" cy="730800"/>
            <a:chOff x="3225600" y="4348080"/>
            <a:chExt cx="6191280" cy="730800"/>
          </a:xfrm>
        </p:grpSpPr>
        <p:sp>
          <p:nvSpPr>
            <p:cNvPr id="287" name=""/>
            <p:cNvSpPr/>
            <p:nvPr/>
          </p:nvSpPr>
          <p:spPr>
            <a:xfrm>
              <a:off x="3747960" y="4348080"/>
              <a:ext cx="5448960" cy="44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&lt;E</a:t>
              </a:r>
              <a:r>
                <a:rPr b="1" lang="fr-FR" sz="2000" spc="-1" strike="noStrike" baseline="-25000">
                  <a:solidFill>
                    <a:srgbClr val="000099"/>
                  </a:solidFill>
                  <a:latin typeface="Symbol"/>
                  <a:ea typeface="Symbol"/>
                </a:rPr>
                <a:t>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&gt; ~ </a:t>
              </a:r>
              <a:r>
                <a:rPr b="1" lang="fr-FR" sz="2000" spc="-1" strike="noStrike">
                  <a:solidFill>
                    <a:srgbClr val="0066ff"/>
                  </a:solidFill>
                  <a:latin typeface="Arial"/>
                </a:rPr>
                <a:t>275</a:t>
              </a: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MeV,  </a:t>
              </a:r>
              <a:r>
                <a:rPr b="1" lang="fr-FR" sz="2000" spc="-1" strike="noStrike">
                  <a:solidFill>
                    <a:srgbClr val="0066ff"/>
                  </a:solidFill>
                  <a:latin typeface="Arial"/>
                </a:rPr>
                <a:t>4.5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 10</a:t>
              </a:r>
              <a:r>
                <a:rPr b="1" lang="fr-FR" sz="2000" spc="-1" strike="noStrike" baseline="30000">
                  <a:solidFill>
                    <a:srgbClr val="000099"/>
                  </a:solidFill>
                  <a:latin typeface="Arial"/>
                </a:rPr>
                <a:t>13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/100m</a:t>
              </a:r>
              <a:r>
                <a:rPr b="1" lang="fr-FR" sz="2000" spc="-1" strike="noStrike" baseline="30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/yr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225600" y="4556160"/>
              <a:ext cx="996840" cy="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43800" y="4680000"/>
              <a:ext cx="367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Old </a:t>
              </a:r>
              <a:r>
                <a:rPr b="0" lang="fr-FR" sz="20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</a:t>
              </a: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Fact optimum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3465000" y="2660760"/>
            <a:ext cx="5945760" cy="762120"/>
            <a:chOff x="3465000" y="2660760"/>
            <a:chExt cx="5945760" cy="762120"/>
          </a:xfrm>
        </p:grpSpPr>
        <p:sp>
          <p:nvSpPr>
            <p:cNvPr id="291" name=""/>
            <p:cNvSpPr/>
            <p:nvPr/>
          </p:nvSpPr>
          <p:spPr>
            <a:xfrm>
              <a:off x="3747960" y="2660760"/>
              <a:ext cx="5448960" cy="44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&lt;E</a:t>
              </a:r>
              <a:r>
                <a:rPr b="1" lang="fr-FR" sz="2000" spc="-1" strike="noStrike" baseline="-25000">
                  <a:solidFill>
                    <a:srgbClr val="000099"/>
                  </a:solidFill>
                  <a:latin typeface="Symbol"/>
                  <a:ea typeface="Symbol"/>
                </a:rPr>
                <a:t>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&gt; ~ </a:t>
              </a: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300 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MeV,  </a:t>
              </a: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1.2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 10</a:t>
              </a:r>
              <a:r>
                <a:rPr b="1" lang="fr-FR" sz="2000" spc="-1" strike="noStrike" baseline="30000">
                  <a:solidFill>
                    <a:srgbClr val="000099"/>
                  </a:solidFill>
                  <a:latin typeface="Arial"/>
                </a:rPr>
                <a:t>14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/100m</a:t>
              </a:r>
              <a:r>
                <a:rPr b="1" lang="fr-FR" sz="2000" spc="-1" strike="noStrike" baseline="30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/yr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3465000" y="2841120"/>
              <a:ext cx="698760" cy="27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508720" y="3024000"/>
              <a:ext cx="390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00"/>
                  </a:solidFill>
                  <a:latin typeface="Comic Sans MS"/>
                </a:rPr>
                <a:t>3.5GeV SPL optimum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3747960" y="3562200"/>
            <a:ext cx="5448960" cy="44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&lt;E</a:t>
            </a:r>
            <a:r>
              <a:rPr b="1" lang="fr-FR" sz="20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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&gt; ~ </a:t>
            </a:r>
            <a:r>
              <a:rPr b="1" lang="fr-FR" sz="2000" spc="-1" strike="noStrike">
                <a:solidFill>
                  <a:srgbClr val="00cc00"/>
                </a:solidFill>
                <a:latin typeface="Arial"/>
              </a:rPr>
              <a:t>245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 MeV,  </a:t>
            </a:r>
            <a:r>
              <a:rPr b="1" lang="fr-FR" sz="2000" spc="-1" strike="noStrike">
                <a:solidFill>
                  <a:srgbClr val="00cc00"/>
                </a:solidFill>
                <a:latin typeface="Arial"/>
              </a:rPr>
              <a:t>7.5 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10</a:t>
            </a:r>
            <a:r>
              <a:rPr b="1" lang="fr-FR" sz="2000" spc="-1" strike="noStrike" baseline="30000">
                <a:solidFill>
                  <a:srgbClr val="000099"/>
                </a:solidFill>
                <a:latin typeface="Arial"/>
              </a:rPr>
              <a:t>13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/100m</a:t>
            </a:r>
            <a:r>
              <a:rPr b="1" lang="fr-FR" sz="20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/yr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505480" y="3873600"/>
            <a:ext cx="390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Comic Sans MS"/>
              </a:rPr>
              <a:t>2.2GeV SPL optimum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2982960" y="3772080"/>
            <a:ext cx="124128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48560" y="2233440"/>
            <a:ext cx="485640" cy="349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3000" y="1698480"/>
            <a:ext cx="26096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~95 </a:t>
            </a:r>
            <a:r>
              <a:rPr b="0" lang="fr-FR" sz="24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fr-FR" sz="24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0" lang="fr-FR" sz="2400" spc="-1" strike="noStrike" baseline="30000">
                <a:solidFill>
                  <a:srgbClr val="003399"/>
                </a:solidFill>
                <a:latin typeface="Comic Sans MS"/>
              </a:rPr>
              <a:t>CC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/kT/yr*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569560" y="6191280"/>
            <a:ext cx="41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99"/>
                </a:solidFill>
                <a:latin typeface="Comic Sans MS"/>
              </a:rPr>
              <a:t>*: Lipari x-sect. (see later)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Flux @ 130km: + focusing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24000" y="1413000"/>
            <a:ext cx="5543280" cy="5067000"/>
            <a:chOff x="324000" y="1413000"/>
            <a:chExt cx="5543280" cy="5067000"/>
          </a:xfrm>
        </p:grpSpPr>
        <p:pic>
          <p:nvPicPr>
            <p:cNvPr id="302" name="" descr=""/>
            <p:cNvPicPr/>
            <p:nvPr/>
          </p:nvPicPr>
          <p:blipFill>
            <a:blip r:embed="rId1"/>
            <a:stretch/>
          </p:blipFill>
          <p:spPr>
            <a:xfrm>
              <a:off x="324000" y="1413000"/>
              <a:ext cx="5543280" cy="50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2411280" y="2494080"/>
              <a:ext cx="1222560" cy="736200"/>
            </a:xfrm>
            <a:custGeom>
              <a:avLst/>
              <a:gdLst>
                <a:gd name="textAreaLeft" fmla="*/ 190800 w 1222560"/>
                <a:gd name="textAreaRight" fmla="*/ 1069920 w 1222560"/>
                <a:gd name="textAreaTop" fmla="*/ 183960 h 736200"/>
                <a:gd name="textAreaBottom" fmla="*/ 55224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99"/>
                  </a:solidFill>
                  <a:latin typeface="Arial"/>
                </a:rPr>
                <a:t>x1/140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5400000">
              <a:off x="1611360" y="3276720"/>
              <a:ext cx="1152360" cy="736200"/>
            </a:xfrm>
            <a:custGeom>
              <a:avLst/>
              <a:gdLst>
                <a:gd name="textAreaLeft" fmla="*/ 180000 w 1152360"/>
                <a:gd name="textAreaRight" fmla="*/ 1008360 w 1152360"/>
                <a:gd name="textAreaTop" fmla="*/ 183960 h 736200"/>
                <a:gd name="textAreaBottom" fmla="*/ 55224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99"/>
                  </a:solidFill>
                  <a:latin typeface="Arial"/>
                </a:rPr>
                <a:t>x1/17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2547600">
              <a:off x="2313000" y="3273480"/>
              <a:ext cx="1438560" cy="736200"/>
            </a:xfrm>
            <a:custGeom>
              <a:avLst/>
              <a:gdLst>
                <a:gd name="textAreaLeft" fmla="*/ 224640 w 1438560"/>
                <a:gd name="textAreaRight" fmla="*/ 1258920 w 1438560"/>
                <a:gd name="textAreaTop" fmla="*/ 183960 h 736200"/>
                <a:gd name="textAreaBottom" fmla="*/ 55224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825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99"/>
                  </a:solidFill>
                  <a:latin typeface="Arial"/>
                </a:rPr>
                <a:t>x1/3000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2003400" y="218268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37080" y="521640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94120" y="221940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281840" y="5024520"/>
            <a:ext cx="1067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1/2 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1/2 K</a:t>
            </a:r>
            <a:r>
              <a:rPr b="0" lang="fr-FR" sz="18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e3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12880" y="930240"/>
            <a:ext cx="40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http://opera.web.lal.in2p3.fr/horn/Simu/index.htm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30520" y="3213000"/>
            <a:ext cx="25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3.5GeV Kinetic p beam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800MeV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</a:t>
            </a: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focusing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40m decay tunnel length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2m    decay tunnel radiu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63760" y="1419120"/>
            <a:ext cx="78264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690000" y="1454040"/>
            <a:ext cx="182916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Comic Sans MS"/>
              </a:rPr>
              <a:t>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65320" y="4049640"/>
            <a:ext cx="90972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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632760" y="3938760"/>
            <a:ext cx="208368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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Comic Sans MS"/>
              </a:rPr>
              <a:t>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The X-section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666720" y="4348080"/>
            <a:ext cx="7566120" cy="16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Symbol"/>
                <a:ea typeface="Symbol"/>
              </a:rPr>
              <a:t>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B is an ideal tool to measure these cross-sections and a 2% systematic error on both signal and background are used.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146640" y="2719440"/>
            <a:ext cx="2710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---: Lipari et al.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on H</a:t>
            </a:r>
            <a:r>
              <a:rPr b="0" lang="fr-FR" sz="2400" spc="-1" strike="noStrike" baseline="-25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804960" y="1015920"/>
            <a:ext cx="5236920" cy="3385800"/>
            <a:chOff x="804960" y="1015920"/>
            <a:chExt cx="5236920" cy="3385800"/>
          </a:xfrm>
        </p:grpSpPr>
        <p:grpSp>
          <p:nvGrpSpPr>
            <p:cNvPr id="320" name=""/>
            <p:cNvGrpSpPr/>
            <p:nvPr/>
          </p:nvGrpSpPr>
          <p:grpSpPr>
            <a:xfrm>
              <a:off x="804960" y="1015920"/>
              <a:ext cx="5236920" cy="3385800"/>
              <a:chOff x="804960" y="1015920"/>
              <a:chExt cx="5236920" cy="3385800"/>
            </a:xfrm>
          </p:grpSpPr>
          <p:sp>
            <p:nvSpPr>
              <p:cNvPr id="321" name=""/>
              <p:cNvSpPr/>
              <p:nvPr/>
            </p:nvSpPr>
            <p:spPr>
              <a:xfrm>
                <a:off x="811080" y="1025280"/>
                <a:ext cx="5230440" cy="3376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322" name=""/>
              <p:cNvGrpSpPr/>
              <p:nvPr/>
            </p:nvGrpSpPr>
            <p:grpSpPr>
              <a:xfrm>
                <a:off x="804960" y="1015920"/>
                <a:ext cx="5236920" cy="3369600"/>
                <a:chOff x="804960" y="1015920"/>
                <a:chExt cx="5236920" cy="3369600"/>
              </a:xfrm>
            </p:grpSpPr>
            <p:pic>
              <p:nvPicPr>
                <p:cNvPr id="323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04960" y="1015920"/>
                  <a:ext cx="5236920" cy="3369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4" name=""/>
                <p:cNvSpPr/>
                <p:nvPr/>
              </p:nvSpPr>
              <p:spPr>
                <a:xfrm>
                  <a:off x="2055240" y="2666160"/>
                  <a:ext cx="3550320" cy="1290240"/>
                </a:xfrm>
                <a:custGeom>
                  <a:avLst/>
                  <a:gdLst/>
                  <a:ahLst/>
                  <a:rect l="l" t="t" r="r" b="b"/>
                  <a:pathLst>
                    <a:path w="3735" h="1733">
                      <a:moveTo>
                        <a:pt x="0" y="1718"/>
                      </a:moveTo>
                      <a:cubicBezTo>
                        <a:pt x="84" y="1725"/>
                        <a:pt x="168" y="1733"/>
                        <a:pt x="225" y="1700"/>
                      </a:cubicBezTo>
                      <a:cubicBezTo>
                        <a:pt x="282" y="1667"/>
                        <a:pt x="304" y="1625"/>
                        <a:pt x="342" y="1520"/>
                      </a:cubicBezTo>
                      <a:cubicBezTo>
                        <a:pt x="380" y="1415"/>
                        <a:pt x="416" y="1190"/>
                        <a:pt x="450" y="1070"/>
                      </a:cubicBezTo>
                      <a:cubicBezTo>
                        <a:pt x="484" y="950"/>
                        <a:pt x="515" y="888"/>
                        <a:pt x="549" y="800"/>
                      </a:cubicBezTo>
                      <a:cubicBezTo>
                        <a:pt x="583" y="712"/>
                        <a:pt x="612" y="635"/>
                        <a:pt x="657" y="539"/>
                      </a:cubicBezTo>
                      <a:cubicBezTo>
                        <a:pt x="702" y="443"/>
                        <a:pt x="761" y="308"/>
                        <a:pt x="819" y="224"/>
                      </a:cubicBezTo>
                      <a:cubicBezTo>
                        <a:pt x="877" y="140"/>
                        <a:pt x="939" y="70"/>
                        <a:pt x="1008" y="35"/>
                      </a:cubicBezTo>
                      <a:cubicBezTo>
                        <a:pt x="1077" y="0"/>
                        <a:pt x="1151" y="17"/>
                        <a:pt x="1233" y="17"/>
                      </a:cubicBezTo>
                      <a:cubicBezTo>
                        <a:pt x="1315" y="17"/>
                        <a:pt x="1377" y="19"/>
                        <a:pt x="1503" y="35"/>
                      </a:cubicBezTo>
                      <a:cubicBezTo>
                        <a:pt x="1629" y="51"/>
                        <a:pt x="1781" y="85"/>
                        <a:pt x="1989" y="116"/>
                      </a:cubicBezTo>
                      <a:cubicBezTo>
                        <a:pt x="2197" y="147"/>
                        <a:pt x="2556" y="200"/>
                        <a:pt x="2754" y="224"/>
                      </a:cubicBezTo>
                      <a:cubicBezTo>
                        <a:pt x="2952" y="248"/>
                        <a:pt x="3054" y="242"/>
                        <a:pt x="3177" y="260"/>
                      </a:cubicBezTo>
                      <a:cubicBezTo>
                        <a:pt x="3300" y="278"/>
                        <a:pt x="3399" y="320"/>
                        <a:pt x="3492" y="332"/>
                      </a:cubicBezTo>
                      <a:cubicBezTo>
                        <a:pt x="3585" y="344"/>
                        <a:pt x="3695" y="332"/>
                        <a:pt x="3735" y="332"/>
                      </a:cubicBezTo>
                    </a:path>
                  </a:pathLst>
                </a:custGeom>
                <a:noFill/>
                <a:ln w="38160">
                  <a:solidFill>
                    <a:srgbClr val="000099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5" name=""/>
              <p:cNvSpPr/>
              <p:nvPr/>
            </p:nvSpPr>
            <p:spPr>
              <a:xfrm>
                <a:off x="1578600" y="2615040"/>
                <a:ext cx="1652040" cy="1346040"/>
              </a:xfrm>
              <a:custGeom>
                <a:avLst/>
                <a:gdLst/>
                <a:ahLst/>
                <a:rect l="l" t="t" r="r" b="b"/>
                <a:pathLst>
                  <a:path w="1518" h="1234">
                    <a:moveTo>
                      <a:pt x="0" y="1234"/>
                    </a:moveTo>
                    <a:cubicBezTo>
                      <a:pt x="7" y="1217"/>
                      <a:pt x="24" y="1147"/>
                      <a:pt x="43" y="1122"/>
                    </a:cubicBezTo>
                    <a:cubicBezTo>
                      <a:pt x="62" y="1097"/>
                      <a:pt x="93" y="1094"/>
                      <a:pt x="117" y="1085"/>
                    </a:cubicBezTo>
                    <a:cubicBezTo>
                      <a:pt x="141" y="1076"/>
                      <a:pt x="153" y="1079"/>
                      <a:pt x="187" y="1066"/>
                    </a:cubicBezTo>
                    <a:cubicBezTo>
                      <a:pt x="222" y="1054"/>
                      <a:pt x="281" y="1028"/>
                      <a:pt x="323" y="1010"/>
                    </a:cubicBezTo>
                    <a:cubicBezTo>
                      <a:pt x="364" y="992"/>
                      <a:pt x="403" y="978"/>
                      <a:pt x="436" y="957"/>
                    </a:cubicBezTo>
                    <a:cubicBezTo>
                      <a:pt x="470" y="936"/>
                      <a:pt x="493" y="916"/>
                      <a:pt x="523" y="884"/>
                    </a:cubicBezTo>
                    <a:cubicBezTo>
                      <a:pt x="553" y="852"/>
                      <a:pt x="584" y="827"/>
                      <a:pt x="615" y="768"/>
                    </a:cubicBezTo>
                    <a:cubicBezTo>
                      <a:pt x="646" y="709"/>
                      <a:pt x="686" y="595"/>
                      <a:pt x="712" y="528"/>
                    </a:cubicBezTo>
                    <a:cubicBezTo>
                      <a:pt x="738" y="462"/>
                      <a:pt x="755" y="416"/>
                      <a:pt x="772" y="369"/>
                    </a:cubicBezTo>
                    <a:cubicBezTo>
                      <a:pt x="788" y="322"/>
                      <a:pt x="795" y="281"/>
                      <a:pt x="809" y="246"/>
                    </a:cubicBezTo>
                    <a:cubicBezTo>
                      <a:pt x="824" y="211"/>
                      <a:pt x="843" y="193"/>
                      <a:pt x="858" y="160"/>
                    </a:cubicBezTo>
                    <a:cubicBezTo>
                      <a:pt x="874" y="127"/>
                      <a:pt x="890" y="71"/>
                      <a:pt x="901" y="47"/>
                    </a:cubicBezTo>
                    <a:cubicBezTo>
                      <a:pt x="913" y="23"/>
                      <a:pt x="918" y="21"/>
                      <a:pt x="928" y="14"/>
                    </a:cubicBezTo>
                    <a:cubicBezTo>
                      <a:pt x="939" y="6"/>
                      <a:pt x="951" y="1"/>
                      <a:pt x="966" y="0"/>
                    </a:cubicBezTo>
                    <a:cubicBezTo>
                      <a:pt x="981" y="0"/>
                      <a:pt x="1008" y="6"/>
                      <a:pt x="1020" y="10"/>
                    </a:cubicBezTo>
                    <a:cubicBezTo>
                      <a:pt x="1032" y="15"/>
                      <a:pt x="1028" y="13"/>
                      <a:pt x="1037" y="27"/>
                    </a:cubicBezTo>
                    <a:cubicBezTo>
                      <a:pt x="1046" y="41"/>
                      <a:pt x="1063" y="64"/>
                      <a:pt x="1073" y="92"/>
                    </a:cubicBezTo>
                    <a:cubicBezTo>
                      <a:pt x="1082" y="121"/>
                      <a:pt x="1086" y="149"/>
                      <a:pt x="1093" y="197"/>
                    </a:cubicBezTo>
                    <a:cubicBezTo>
                      <a:pt x="1100" y="245"/>
                      <a:pt x="1110" y="319"/>
                      <a:pt x="1118" y="382"/>
                    </a:cubicBezTo>
                    <a:cubicBezTo>
                      <a:pt x="1126" y="446"/>
                      <a:pt x="1132" y="513"/>
                      <a:pt x="1139" y="578"/>
                    </a:cubicBezTo>
                    <a:cubicBezTo>
                      <a:pt x="1147" y="644"/>
                      <a:pt x="1154" y="717"/>
                      <a:pt x="1160" y="775"/>
                    </a:cubicBezTo>
                    <a:cubicBezTo>
                      <a:pt x="1166" y="833"/>
                      <a:pt x="1172" y="884"/>
                      <a:pt x="1177" y="927"/>
                    </a:cubicBezTo>
                    <a:cubicBezTo>
                      <a:pt x="1183" y="970"/>
                      <a:pt x="1186" y="995"/>
                      <a:pt x="1191" y="1031"/>
                    </a:cubicBezTo>
                    <a:cubicBezTo>
                      <a:pt x="1196" y="1068"/>
                      <a:pt x="1200" y="1123"/>
                      <a:pt x="1207" y="1149"/>
                    </a:cubicBezTo>
                    <a:cubicBezTo>
                      <a:pt x="1213" y="1175"/>
                      <a:pt x="1225" y="1178"/>
                      <a:pt x="1233" y="1187"/>
                    </a:cubicBezTo>
                    <a:cubicBezTo>
                      <a:pt x="1240" y="1195"/>
                      <a:pt x="1244" y="1195"/>
                      <a:pt x="1254" y="1200"/>
                    </a:cubicBezTo>
                    <a:cubicBezTo>
                      <a:pt x="1263" y="1205"/>
                      <a:pt x="1276" y="1215"/>
                      <a:pt x="1290" y="1219"/>
                    </a:cubicBezTo>
                    <a:cubicBezTo>
                      <a:pt x="1303" y="1222"/>
                      <a:pt x="1314" y="1219"/>
                      <a:pt x="1334" y="1219"/>
                    </a:cubicBezTo>
                    <a:cubicBezTo>
                      <a:pt x="1354" y="1219"/>
                      <a:pt x="1385" y="1218"/>
                      <a:pt x="1410" y="1219"/>
                    </a:cubicBezTo>
                    <a:cubicBezTo>
                      <a:pt x="1435" y="1220"/>
                      <a:pt x="1468" y="1225"/>
                      <a:pt x="1486" y="1226"/>
                    </a:cubicBezTo>
                    <a:cubicBezTo>
                      <a:pt x="1504" y="1227"/>
                      <a:pt x="1513" y="1226"/>
                      <a:pt x="1518" y="1226"/>
                    </a:cubicBezTo>
                  </a:path>
                </a:pathLst>
              </a:custGeom>
              <a:solidFill>
                <a:srgbClr val="969696">
                  <a:alpha val="26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909360" y="2476440"/>
              <a:ext cx="2174040" cy="440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</a:t>
              </a:r>
              <a:r>
                <a:rPr b="0" lang="fr-FR" sz="2000" spc="-1" strike="noStrike" baseline="-25000">
                  <a:solidFill>
                    <a:srgbClr val="003399"/>
                  </a:solidFill>
                  <a:latin typeface="Symbol"/>
                  <a:ea typeface="Symbol"/>
                </a:rPr>
                <a:t></a:t>
              </a:r>
              <a:r>
                <a:rPr b="0" lang="fr-FR" sz="20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</a:t>
              </a: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SPL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60640" y="2894040"/>
              <a:ext cx="204840" cy="368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17120" y="19224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Analysis: 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GLoBES + M. Mezzetto’s parameterization file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146240" y="1260360"/>
          <a:ext cx="7029360" cy="4135680"/>
        </p:xfrm>
        <a:graphic>
          <a:graphicData uri="http://schemas.openxmlformats.org/drawingml/2006/table">
            <a:tbl>
              <a:tblPr/>
              <a:tblGrid>
                <a:gridCol w="1406160"/>
                <a:gridCol w="1395360"/>
                <a:gridCol w="1338480"/>
                <a:gridCol w="1569960"/>
                <a:gridCol w="1319400"/>
              </a:tblGrid>
              <a:tr h="480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 (Si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= 1°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= 3°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sin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= 0.05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33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33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2200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3670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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(Bk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50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CC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0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from NC</a:t>
                      </a:r>
                      <a:r>
                        <a:rPr b="1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CC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missId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CC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Frac. of Bkg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90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6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3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Reduction Factor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707(106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6.5 10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-4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9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5.4 10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-4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45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677(15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(Si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6495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64414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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Bk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 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4.310</a:t>
                      </a:r>
                      <a:r>
                        <a:rPr b="0" lang="en-GB" sz="1600" spc="-1" strike="noStrike" baseline="30000">
                          <a:solidFill>
                            <a:srgbClr val="000099"/>
                          </a:solidFill>
                          <a:latin typeface="Comic Sans MS"/>
                        </a:rPr>
                        <a:t>-5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0" lang="en-GB" sz="1600" spc="-1" strike="noStrike" baseline="-25000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0" lang="en-GB" sz="1600" spc="-1" strike="noStrike" baseline="-25000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CC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30" name=""/>
          <p:cNvSpPr/>
          <p:nvPr/>
        </p:nvSpPr>
        <p:spPr>
          <a:xfrm>
            <a:off x="3791160" y="744480"/>
            <a:ext cx="48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40kT x 5yrs</a:t>
            </a: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: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2,2 Mt.yrs (+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170000" y="5477040"/>
            <a:ext cx="6319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82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/4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2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41240" y="5851440"/>
            <a:ext cx="804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Reduction factor and efficiencies taken from SK simulation (D. Casper) and a tight cut for e/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 misId. (cf. hep-ph/0105297)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"/>
          <p:cNvGraphicFramePr/>
          <p:nvPr/>
        </p:nvGraphicFramePr>
        <p:xfrm>
          <a:off x="1146240" y="1260360"/>
          <a:ext cx="7273800" cy="4200480"/>
        </p:xfrm>
        <a:graphic>
          <a:graphicData uri="http://schemas.openxmlformats.org/drawingml/2006/table">
            <a:tbl>
              <a:tblPr/>
              <a:tblGrid>
                <a:gridCol w="1638360"/>
                <a:gridCol w="1442880"/>
                <a:gridCol w="1386000"/>
                <a:gridCol w="1441440"/>
                <a:gridCol w="1365120"/>
              </a:tblGrid>
              <a:tr h="657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 (Si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= 1°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sin</a:t>
                      </a:r>
                      <a:r>
                        <a:rPr b="0" lang="en-GB" sz="14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4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= 0.001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= 3°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sin</a:t>
                      </a:r>
                      <a:r>
                        <a:rPr b="0" lang="en-GB" sz="14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4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= 0.01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sin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= 0.05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39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130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114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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(Bk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9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CC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CC</a:t>
                      </a:r>
                      <a:r>
                        <a:rPr b="1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0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from NC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CC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missId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Frac. of Bkg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45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35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18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Reduction Factor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677(22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707(17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.5 10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-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9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5.4 10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-4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1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(Si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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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19590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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Bk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 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4.310</a:t>
                      </a:r>
                      <a:r>
                        <a:rPr b="0" lang="en-GB" sz="1600" spc="-1" strike="noStrike" baseline="30000">
                          <a:solidFill>
                            <a:srgbClr val="000099"/>
                          </a:solidFill>
                          <a:latin typeface="Comic Sans MS"/>
                        </a:rPr>
                        <a:t>-5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0" lang="en-GB" sz="1600" spc="-1" strike="noStrike" baseline="-25000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0" lang="en-GB" sz="1600" spc="-1" strike="noStrike" baseline="-25000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CC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34" name=""/>
          <p:cNvSpPr/>
          <p:nvPr/>
        </p:nvSpPr>
        <p:spPr>
          <a:xfrm>
            <a:off x="3819600" y="744480"/>
            <a:ext cx="47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40kT x 8yrs</a:t>
            </a: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: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3,5 Mt.yrs (-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170000" y="5477040"/>
            <a:ext cx="6319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82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/4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2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ome physics performanc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37" name=""/>
          <p:cNvSpPr/>
          <p:nvPr/>
        </p:nvSpPr>
        <p:spPr>
          <a:xfrm>
            <a:off x="2130120" y="1033560"/>
            <a:ext cx="58240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40kT water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Č, 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4MW SPL, opti. Fluxe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671360" y="4272120"/>
            <a:ext cx="427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2% syst. on signal &amp; bkg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652000" y="6303960"/>
            <a:ext cx="34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(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(2dof)=4.6 or 11.83)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80720" y="6273720"/>
            <a:ext cx="39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99"/>
                </a:solidFill>
                <a:latin typeface="Comic Sans MS"/>
              </a:rPr>
              <a:t>*: 5 bins [0.08,1.08] GeV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84800" y="4973760"/>
            <a:ext cx="4848480" cy="44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</a:rPr>
              <a:t>Sin</a:t>
            </a:r>
            <a:r>
              <a:rPr b="1" lang="en-GB" sz="20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GB" sz="20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1" lang="en-GB" sz="2000" spc="-1" strike="noStrike" baseline="-25000">
                <a:solidFill>
                  <a:srgbClr val="000099"/>
                </a:solidFill>
                <a:latin typeface="Comic Sans MS"/>
              </a:rPr>
              <a:t>13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</a:rPr>
              <a:t>(90%CL) = 610</a:t>
            </a:r>
            <a:r>
              <a:rPr b="1" lang="en-GB" sz="2000" spc="-1" strike="noStrike" baseline="30000">
                <a:solidFill>
                  <a:srgbClr val="000099"/>
                </a:solidFill>
                <a:latin typeface="Comic Sans MS"/>
              </a:rPr>
              <a:t>-3 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</a:rPr>
              <a:t>(0.7°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415480" y="1778040"/>
            <a:ext cx="278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5yrs (+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-457200" y="1525680"/>
            <a:ext cx="5313240" cy="4314600"/>
            <a:chOff x="-457200" y="1525680"/>
            <a:chExt cx="5313240" cy="4314600"/>
          </a:xfrm>
        </p:grpSpPr>
        <p:grpSp>
          <p:nvGrpSpPr>
            <p:cNvPr id="344" name=""/>
            <p:cNvGrpSpPr/>
            <p:nvPr/>
          </p:nvGrpSpPr>
          <p:grpSpPr>
            <a:xfrm>
              <a:off x="-457200" y="1525680"/>
              <a:ext cx="5313240" cy="4314600"/>
              <a:chOff x="-457200" y="1525680"/>
              <a:chExt cx="5313240" cy="4314600"/>
            </a:xfrm>
          </p:grpSpPr>
          <p:grpSp>
            <p:nvGrpSpPr>
              <p:cNvPr id="345" name=""/>
              <p:cNvGrpSpPr/>
              <p:nvPr/>
            </p:nvGrpSpPr>
            <p:grpSpPr>
              <a:xfrm>
                <a:off x="-457200" y="1525680"/>
                <a:ext cx="5103720" cy="4314600"/>
                <a:chOff x="-457200" y="1525680"/>
                <a:chExt cx="5103720" cy="4314600"/>
              </a:xfrm>
            </p:grpSpPr>
            <p:grpSp>
              <p:nvGrpSpPr>
                <p:cNvPr id="346" name=""/>
                <p:cNvGrpSpPr/>
                <p:nvPr/>
              </p:nvGrpSpPr>
              <p:grpSpPr>
                <a:xfrm>
                  <a:off x="103320" y="1525680"/>
                  <a:ext cx="4543200" cy="4314600"/>
                  <a:chOff x="103320" y="1525680"/>
                  <a:chExt cx="4543200" cy="4314600"/>
                </a:xfrm>
              </p:grpSpPr>
              <p:pic>
                <p:nvPicPr>
                  <p:cNvPr id="347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03320" y="1525680"/>
                    <a:ext cx="4543200" cy="43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8" name=""/>
                  <p:cNvSpPr/>
                  <p:nvPr/>
                </p:nvSpPr>
                <p:spPr>
                  <a:xfrm>
                    <a:off x="416520" y="2000160"/>
                    <a:ext cx="2121840" cy="5101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marL="609480" indent="-609480"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ff0000"/>
                        </a:solidFill>
                        <a:latin typeface="Symbol"/>
                        <a:ea typeface="Symbol"/>
                      </a:rPr>
                      <a:t></a:t>
                    </a:r>
                    <a:r>
                      <a:rPr b="1" lang="en-GB" sz="2400" spc="-1" strike="noStrike" baseline="-25000">
                        <a:solidFill>
                          <a:srgbClr val="ff0000"/>
                        </a:solidFill>
                        <a:latin typeface="Comic Sans MS"/>
                      </a:rPr>
                      <a:t>CP</a:t>
                    </a:r>
                    <a:r>
                      <a:rPr b="0" lang="en-GB" sz="2400" spc="-1" strike="noStrike">
                        <a:solidFill>
                          <a:srgbClr val="ff0000"/>
                        </a:solidFill>
                        <a:latin typeface="Comic Sans MS"/>
                      </a:rPr>
                      <a:t>=0</a:t>
                    </a: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1028880" y="4686120"/>
                    <a:ext cx="0" cy="5709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0" name=""/>
                <p:cNvSpPr/>
                <p:nvPr/>
              </p:nvSpPr>
              <p:spPr>
                <a:xfrm>
                  <a:off x="-457200" y="5460840"/>
                  <a:ext cx="263700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3399"/>
                      </a:solidFill>
                      <a:latin typeface="Comic Sans MS"/>
                    </a:rPr>
                    <a:t>preliminary</a:t>
                  </a:r>
                  <a:endParaRPr b="0" lang="en-US" sz="1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1" name=""/>
              <p:cNvSpPr/>
              <p:nvPr/>
            </p:nvSpPr>
            <p:spPr>
              <a:xfrm>
                <a:off x="2738520" y="1884240"/>
                <a:ext cx="21175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3399"/>
                    </a:solidFill>
                    <a:latin typeface="Comic Sans MS"/>
                  </a:rPr>
                  <a:t>90%CL</a:t>
                </a:r>
                <a:endParaRPr b="0" lang="en-US" sz="18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1938240" y="3335400"/>
              <a:ext cx="2739240" cy="901800"/>
            </a:xfrm>
            <a:prstGeom prst="rect">
              <a:avLst/>
            </a:prstGeom>
            <a:solidFill>
              <a:srgbClr val="f4e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Comic Sans MS"/>
                </a:rPr>
                <a:t>New Opt.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99"/>
                  </a:solidFill>
                  <a:latin typeface="Comic Sans MS"/>
                </a:rPr>
                <a:t>Old  Opt.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4592520" y="2624040"/>
            <a:ext cx="44323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True values: 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1" lang="en-US" sz="16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Comic Sans MS"/>
              </a:rPr>
              <a:t>3, 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sin</a:t>
            </a:r>
            <a:r>
              <a:rPr b="1" lang="en-US" sz="16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Comic Sans MS"/>
              </a:rPr>
              <a:t>13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US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=0.82, </a:t>
            </a:r>
            <a:r>
              <a:rPr b="1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=</a:t>
            </a:r>
            <a:r>
              <a:rPr b="0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/4, </a:t>
            </a:r>
            <a:r>
              <a:rPr b="1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US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US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US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US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5% 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external precision on </a:t>
            </a:r>
            <a:r>
              <a:rPr b="1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and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US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US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 and use SPL disappearance channel and spectrum analysis*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009680" y="5524560"/>
            <a:ext cx="563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izeable improvemen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ome physics performanc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725400" y="1138320"/>
            <a:ext cx="807408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True values: 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Comic Sans MS"/>
              </a:rPr>
              <a:t>CP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=0, 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Comic Sans MS"/>
              </a:rPr>
              <a:t>13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=0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82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/4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2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5%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xternal precision on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and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 and use SPL disappearance channel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-24480" y="6005520"/>
            <a:ext cx="48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2% syst. on signal &amp; bkg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207400" y="5910120"/>
            <a:ext cx="4106160" cy="581400"/>
          </a:xfrm>
          <a:prstGeom prst="rect">
            <a:avLst/>
          </a:prstGeom>
          <a:solidFill>
            <a:srgbClr val="f4e1c2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Improve T2K-I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-156600" y="1816200"/>
            <a:ext cx="5229720" cy="4009320"/>
            <a:chOff x="-156600" y="1816200"/>
            <a:chExt cx="5229720" cy="4009320"/>
          </a:xfrm>
        </p:grpSpPr>
        <p:grpSp>
          <p:nvGrpSpPr>
            <p:cNvPr id="360" name=""/>
            <p:cNvGrpSpPr/>
            <p:nvPr/>
          </p:nvGrpSpPr>
          <p:grpSpPr>
            <a:xfrm>
              <a:off x="-156600" y="1816200"/>
              <a:ext cx="5229720" cy="4009320"/>
              <a:chOff x="-156600" y="1816200"/>
              <a:chExt cx="5229720" cy="4009320"/>
            </a:xfrm>
          </p:grpSpPr>
          <p:sp>
            <p:nvSpPr>
              <p:cNvPr id="361" name=""/>
              <p:cNvSpPr/>
              <p:nvPr/>
            </p:nvSpPr>
            <p:spPr>
              <a:xfrm>
                <a:off x="376200" y="1816200"/>
                <a:ext cx="4327560" cy="3958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7000" y="2314440"/>
                <a:ext cx="2789640" cy="1170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2yrs (</a:t>
                </a:r>
                <a:r>
                  <a:rPr b="1" lang="en-GB" sz="32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</a:t>
                </a: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)</a:t>
                </a:r>
                <a:endParaRPr b="0" lang="en-US" sz="32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marL="609480" indent="-609480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8yrs (</a:t>
                </a:r>
                <a:r>
                  <a:rPr b="1" lang="en-GB" sz="32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</a:t>
                </a: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)</a:t>
                </a:r>
                <a:endParaRPr b="0" lang="en-US" sz="3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579680" y="4808520"/>
                <a:ext cx="26370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99"/>
                    </a:solidFill>
                    <a:latin typeface="Comic Sans MS"/>
                  </a:rPr>
                  <a:t>preliminary</a:t>
                </a:r>
                <a:endParaRPr b="0" lang="en-US" sz="18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pic>
            <p:nvPicPr>
              <p:cNvPr id="36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65120" y="1895400"/>
                <a:ext cx="4170240" cy="39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2521440" y="2577960"/>
                <a:ext cx="201384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8000"/>
                    </a:solidFill>
                    <a:latin typeface="Comic Sans MS"/>
                  </a:rPr>
                  <a:t>T2K-I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366" name=""/>
              <p:cNvGrpSpPr/>
              <p:nvPr/>
            </p:nvGrpSpPr>
            <p:grpSpPr>
              <a:xfrm>
                <a:off x="1072080" y="2087640"/>
                <a:ext cx="2283480" cy="337320"/>
                <a:chOff x="1072080" y="2087640"/>
                <a:chExt cx="2283480" cy="3373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1166760" y="2260440"/>
                  <a:ext cx="403200" cy="0"/>
                </a:xfrm>
                <a:prstGeom prst="line">
                  <a:avLst/>
                </a:prstGeom>
                <a:ln w="38160">
                  <a:solidFill>
                    <a:srgbClr val="ff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072080" y="2087640"/>
                  <a:ext cx="22834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ff66cc"/>
                      </a:solidFill>
                      <a:latin typeface="Comic Sans MS"/>
                    </a:rPr>
                    <a:t>Rate only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1099440" y="2367000"/>
                <a:ext cx="3973680" cy="337320"/>
                <a:chOff x="1099440" y="2367000"/>
                <a:chExt cx="3973680" cy="3373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1193760" y="2539800"/>
                  <a:ext cx="4032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099440" y="2367000"/>
                  <a:ext cx="39736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ff0000"/>
                      </a:solidFill>
                      <a:latin typeface="Comic Sans MS"/>
                    </a:rPr>
                    <a:t>Spectrum analysis (prelim.)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2" name=""/>
              <p:cNvSpPr/>
              <p:nvPr/>
            </p:nvSpPr>
            <p:spPr>
              <a:xfrm>
                <a:off x="-156600" y="5365800"/>
                <a:ext cx="366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3399"/>
                    </a:solidFill>
                    <a:latin typeface="Comic Sans MS"/>
                  </a:rPr>
                  <a:t>90%CL</a:t>
                </a:r>
                <a:r>
                  <a:rPr b="0" lang="en-GB" sz="1600" spc="-1" strike="noStrike">
                    <a:solidFill>
                      <a:srgbClr val="003399"/>
                    </a:solidFill>
                    <a:latin typeface="Comic Sans MS"/>
                  </a:rPr>
                  <a:t> (</a:t>
                </a:r>
                <a:r>
                  <a:rPr b="0" lang="en-GB" sz="16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</a:t>
                </a:r>
                <a:r>
                  <a:rPr b="0" lang="en-GB" sz="1600" spc="-1" strike="noStrike" baseline="30000">
                    <a:solidFill>
                      <a:srgbClr val="003399"/>
                    </a:solidFill>
                    <a:latin typeface="Comic Sans MS"/>
                  </a:rPr>
                  <a:t>2</a:t>
                </a:r>
                <a:r>
                  <a:rPr b="0" lang="en-GB" sz="1600" spc="-1" strike="noStrike">
                    <a:solidFill>
                      <a:srgbClr val="003399"/>
                    </a:solidFill>
                    <a:latin typeface="Comic Sans MS"/>
                  </a:rPr>
                  <a:t>(2dof)=4.6)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108160" y="4627440"/>
                <a:ext cx="2789640" cy="581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5yrs (</a:t>
                </a:r>
                <a:r>
                  <a:rPr b="1" lang="en-GB" sz="32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</a:t>
                </a: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)</a:t>
                </a:r>
                <a:endParaRPr b="0" lang="en-US" sz="3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374" name=""/>
              <p:cNvGrpSpPr/>
              <p:nvPr/>
            </p:nvGrpSpPr>
            <p:grpSpPr>
              <a:xfrm>
                <a:off x="1143360" y="2744640"/>
                <a:ext cx="2128320" cy="337320"/>
                <a:chOff x="1143360" y="2744640"/>
                <a:chExt cx="2128320" cy="33732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1206360" y="2895480"/>
                  <a:ext cx="403200" cy="0"/>
                </a:xfrm>
                <a:prstGeom prst="line">
                  <a:avLst/>
                </a:prstGeom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143360" y="2744640"/>
                  <a:ext cx="212832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600" spc="-1" strike="noStrike">
                      <a:solidFill>
                        <a:srgbClr val="3366ff"/>
                      </a:solidFill>
                      <a:latin typeface="Comic Sans MS"/>
                    </a:rPr>
                    <a:t>Old SPL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7" name=""/>
            <p:cNvSpPr/>
            <p:nvPr/>
          </p:nvSpPr>
          <p:spPr>
            <a:xfrm>
              <a:off x="1123920" y="2962080"/>
              <a:ext cx="3301920" cy="749520"/>
            </a:xfrm>
            <a:custGeom>
              <a:avLst/>
              <a:gdLst/>
              <a:ahLst/>
              <a:rect l="l" t="t" r="r" b="b"/>
              <a:pathLst>
                <a:path w="2568" h="326">
                  <a:moveTo>
                    <a:pt x="0" y="144"/>
                  </a:moveTo>
                  <a:cubicBezTo>
                    <a:pt x="11" y="151"/>
                    <a:pt x="43" y="171"/>
                    <a:pt x="68" y="184"/>
                  </a:cubicBezTo>
                  <a:cubicBezTo>
                    <a:pt x="93" y="197"/>
                    <a:pt x="123" y="213"/>
                    <a:pt x="148" y="224"/>
                  </a:cubicBezTo>
                  <a:cubicBezTo>
                    <a:pt x="173" y="235"/>
                    <a:pt x="197" y="245"/>
                    <a:pt x="216" y="252"/>
                  </a:cubicBezTo>
                  <a:cubicBezTo>
                    <a:pt x="235" y="259"/>
                    <a:pt x="245" y="259"/>
                    <a:pt x="264" y="264"/>
                  </a:cubicBezTo>
                  <a:cubicBezTo>
                    <a:pt x="283" y="269"/>
                    <a:pt x="309" y="279"/>
                    <a:pt x="332" y="284"/>
                  </a:cubicBezTo>
                  <a:cubicBezTo>
                    <a:pt x="355" y="289"/>
                    <a:pt x="378" y="291"/>
                    <a:pt x="400" y="296"/>
                  </a:cubicBezTo>
                  <a:cubicBezTo>
                    <a:pt x="422" y="301"/>
                    <a:pt x="441" y="307"/>
                    <a:pt x="464" y="312"/>
                  </a:cubicBezTo>
                  <a:cubicBezTo>
                    <a:pt x="487" y="317"/>
                    <a:pt x="519" y="322"/>
                    <a:pt x="540" y="324"/>
                  </a:cubicBezTo>
                  <a:cubicBezTo>
                    <a:pt x="561" y="326"/>
                    <a:pt x="573" y="324"/>
                    <a:pt x="592" y="324"/>
                  </a:cubicBezTo>
                  <a:cubicBezTo>
                    <a:pt x="611" y="324"/>
                    <a:pt x="633" y="325"/>
                    <a:pt x="652" y="324"/>
                  </a:cubicBezTo>
                  <a:cubicBezTo>
                    <a:pt x="671" y="323"/>
                    <a:pt x="687" y="323"/>
                    <a:pt x="708" y="320"/>
                  </a:cubicBezTo>
                  <a:cubicBezTo>
                    <a:pt x="729" y="317"/>
                    <a:pt x="755" y="312"/>
                    <a:pt x="776" y="308"/>
                  </a:cubicBezTo>
                  <a:cubicBezTo>
                    <a:pt x="797" y="304"/>
                    <a:pt x="809" y="301"/>
                    <a:pt x="832" y="296"/>
                  </a:cubicBezTo>
                  <a:cubicBezTo>
                    <a:pt x="855" y="291"/>
                    <a:pt x="885" y="288"/>
                    <a:pt x="912" y="280"/>
                  </a:cubicBezTo>
                  <a:cubicBezTo>
                    <a:pt x="939" y="272"/>
                    <a:pt x="968" y="257"/>
                    <a:pt x="992" y="248"/>
                  </a:cubicBezTo>
                  <a:cubicBezTo>
                    <a:pt x="1016" y="239"/>
                    <a:pt x="1033" y="236"/>
                    <a:pt x="1056" y="228"/>
                  </a:cubicBezTo>
                  <a:cubicBezTo>
                    <a:pt x="1079" y="220"/>
                    <a:pt x="1101" y="211"/>
                    <a:pt x="1132" y="200"/>
                  </a:cubicBezTo>
                  <a:cubicBezTo>
                    <a:pt x="1163" y="189"/>
                    <a:pt x="1211" y="175"/>
                    <a:pt x="1240" y="164"/>
                  </a:cubicBezTo>
                  <a:cubicBezTo>
                    <a:pt x="1269" y="153"/>
                    <a:pt x="1280" y="145"/>
                    <a:pt x="1308" y="136"/>
                  </a:cubicBezTo>
                  <a:cubicBezTo>
                    <a:pt x="1336" y="127"/>
                    <a:pt x="1381" y="115"/>
                    <a:pt x="1408" y="108"/>
                  </a:cubicBezTo>
                  <a:cubicBezTo>
                    <a:pt x="1435" y="101"/>
                    <a:pt x="1449" y="99"/>
                    <a:pt x="1472" y="92"/>
                  </a:cubicBezTo>
                  <a:cubicBezTo>
                    <a:pt x="1495" y="85"/>
                    <a:pt x="1525" y="74"/>
                    <a:pt x="1544" y="68"/>
                  </a:cubicBezTo>
                  <a:cubicBezTo>
                    <a:pt x="1563" y="62"/>
                    <a:pt x="1573" y="59"/>
                    <a:pt x="1588" y="56"/>
                  </a:cubicBezTo>
                  <a:cubicBezTo>
                    <a:pt x="1603" y="53"/>
                    <a:pt x="1613" y="53"/>
                    <a:pt x="1632" y="48"/>
                  </a:cubicBezTo>
                  <a:cubicBezTo>
                    <a:pt x="1651" y="43"/>
                    <a:pt x="1684" y="34"/>
                    <a:pt x="1704" y="28"/>
                  </a:cubicBezTo>
                  <a:cubicBezTo>
                    <a:pt x="1724" y="22"/>
                    <a:pt x="1737" y="16"/>
                    <a:pt x="1752" y="12"/>
                  </a:cubicBezTo>
                  <a:cubicBezTo>
                    <a:pt x="1767" y="8"/>
                    <a:pt x="1779" y="5"/>
                    <a:pt x="1796" y="4"/>
                  </a:cubicBezTo>
                  <a:cubicBezTo>
                    <a:pt x="1813" y="3"/>
                    <a:pt x="1837" y="5"/>
                    <a:pt x="1856" y="4"/>
                  </a:cubicBezTo>
                  <a:cubicBezTo>
                    <a:pt x="1875" y="3"/>
                    <a:pt x="1889" y="0"/>
                    <a:pt x="1912" y="0"/>
                  </a:cubicBezTo>
                  <a:cubicBezTo>
                    <a:pt x="1935" y="0"/>
                    <a:pt x="1967" y="3"/>
                    <a:pt x="1996" y="4"/>
                  </a:cubicBezTo>
                  <a:cubicBezTo>
                    <a:pt x="2025" y="5"/>
                    <a:pt x="2056" y="4"/>
                    <a:pt x="2084" y="8"/>
                  </a:cubicBezTo>
                  <a:cubicBezTo>
                    <a:pt x="2112" y="12"/>
                    <a:pt x="2137" y="23"/>
                    <a:pt x="2164" y="28"/>
                  </a:cubicBezTo>
                  <a:cubicBezTo>
                    <a:pt x="2191" y="33"/>
                    <a:pt x="2223" y="35"/>
                    <a:pt x="2248" y="40"/>
                  </a:cubicBezTo>
                  <a:cubicBezTo>
                    <a:pt x="2273" y="45"/>
                    <a:pt x="2286" y="53"/>
                    <a:pt x="2312" y="60"/>
                  </a:cubicBezTo>
                  <a:cubicBezTo>
                    <a:pt x="2338" y="67"/>
                    <a:pt x="2369" y="72"/>
                    <a:pt x="2404" y="84"/>
                  </a:cubicBezTo>
                  <a:cubicBezTo>
                    <a:pt x="2439" y="96"/>
                    <a:pt x="2497" y="120"/>
                    <a:pt x="2524" y="132"/>
                  </a:cubicBezTo>
                  <a:cubicBezTo>
                    <a:pt x="2551" y="144"/>
                    <a:pt x="2560" y="150"/>
                    <a:pt x="2568" y="156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805120" y="3254400"/>
              <a:ext cx="0" cy="10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444320" y="3773520"/>
              <a:ext cx="19087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x10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4940280" y="1874880"/>
            <a:ext cx="4140360" cy="3882960"/>
            <a:chOff x="4940280" y="1874880"/>
            <a:chExt cx="4140360" cy="3882960"/>
          </a:xfrm>
        </p:grpSpPr>
        <p:pic>
          <p:nvPicPr>
            <p:cNvPr id="381" name="" descr=""/>
            <p:cNvPicPr/>
            <p:nvPr/>
          </p:nvPicPr>
          <p:blipFill>
            <a:blip r:embed="rId2"/>
            <a:srcRect l="6549" t="0" r="0" b="0"/>
            <a:stretch/>
          </p:blipFill>
          <p:spPr>
            <a:xfrm>
              <a:off x="4940280" y="1874880"/>
              <a:ext cx="3781440" cy="38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4954680" y="2187720"/>
              <a:ext cx="2789640" cy="117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2yrs (</a:t>
              </a:r>
              <a:r>
                <a:rPr b="1" lang="en-GB" sz="32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</a:t>
              </a: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)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8yrs (</a:t>
              </a:r>
              <a:r>
                <a:rPr b="1" lang="en-GB" sz="32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</a:t>
              </a: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)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443640" y="4707000"/>
              <a:ext cx="2637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399"/>
                  </a:solidFill>
                  <a:latin typeface="Comic Sans MS"/>
                </a:rPr>
                <a:t>preliminary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ome physics performanc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5" name=""/>
          <p:cNvSpPr/>
          <p:nvPr/>
        </p:nvSpPr>
        <p:spPr>
          <a:xfrm>
            <a:off x="135360" y="6081840"/>
            <a:ext cx="404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99"/>
                </a:solidFill>
                <a:latin typeface="Comic Sans MS"/>
              </a:rPr>
              <a:t>Use glbChiDelta and </a:t>
            </a:r>
            <a:r>
              <a:rPr b="0" lang="fr-FR" sz="1400" spc="-1" strike="noStrike">
                <a:solidFill>
                  <a:srgbClr val="003399"/>
                </a:solidFill>
                <a:latin typeface="Symbol"/>
                <a:ea typeface="Symbol"/>
              </a:rPr>
              <a:t></a:t>
            </a:r>
            <a:r>
              <a:rPr b="0" lang="fr-FR" sz="14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fr-FR" sz="1400" spc="-1" strike="noStrike">
                <a:solidFill>
                  <a:srgbClr val="003399"/>
                </a:solidFill>
                <a:latin typeface="Comic Sans MS"/>
              </a:rPr>
              <a:t> (1dof)=9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72040" y="2230560"/>
            <a:ext cx="3981600" cy="21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True values </a:t>
            </a:r>
            <a:r>
              <a:rPr b="0" lang="en-GB" sz="16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1" lang="en-GB" sz="1600" spc="-1" strike="noStrike">
                <a:solidFill>
                  <a:srgbClr val="000099"/>
                </a:solidFill>
                <a:latin typeface="Symbol"/>
                <a:ea typeface="Symbol"/>
              </a:rPr>
              <a:t></a:t>
            </a:r>
            <a:r>
              <a:rPr b="1" lang="en-GB" sz="1600" spc="-1" strike="noStrike" baseline="-25000">
                <a:solidFill>
                  <a:srgbClr val="000099"/>
                </a:solidFill>
                <a:latin typeface="Comic Sans MS"/>
              </a:rPr>
              <a:t>CP</a:t>
            </a:r>
            <a:r>
              <a:rPr b="1" lang="en-GB" sz="1600" spc="-1" strike="noStrike">
                <a:solidFill>
                  <a:srgbClr val="000099"/>
                </a:solidFill>
                <a:latin typeface="Comic Sans MS"/>
              </a:rPr>
              <a:t>,</a:t>
            </a:r>
            <a:r>
              <a:rPr b="1" lang="en-GB" sz="1600" spc="-1" strike="noStrike">
                <a:solidFill>
                  <a:srgbClr val="000099"/>
                </a:solidFill>
                <a:latin typeface="Symbol"/>
                <a:ea typeface="Symbol"/>
              </a:rPr>
              <a:t>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Comic Sans MS"/>
              </a:rPr>
              <a:t>Tests 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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Comic Sans MS"/>
              </a:rPr>
              <a:t>CP</a:t>
            </a:r>
            <a:r>
              <a:rPr b="1" lang="en-GB" sz="1600" spc="-1" strike="noStrike">
                <a:solidFill>
                  <a:srgbClr val="ff0000"/>
                </a:solidFill>
                <a:latin typeface="Comic Sans MS"/>
              </a:rPr>
              <a:t>=0 and 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Comic Sans MS"/>
              </a:rPr>
              <a:t>CP</a:t>
            </a:r>
            <a:r>
              <a:rPr b="1" lang="en-GB" sz="1600" spc="-1" strike="noStrike">
                <a:solidFill>
                  <a:srgbClr val="ff0000"/>
                </a:solidFill>
                <a:latin typeface="Comic Sans MS"/>
              </a:rPr>
              <a:t>=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82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/4,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2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5%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xternal precision on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and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use SPL disappearance channel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% syst on signal &amp; bkg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-189000" y="1039680"/>
            <a:ext cx="5502240" cy="4962600"/>
            <a:chOff x="-189000" y="1039680"/>
            <a:chExt cx="5502240" cy="4962600"/>
          </a:xfrm>
        </p:grpSpPr>
        <p:sp>
          <p:nvSpPr>
            <p:cNvPr id="388" name=""/>
            <p:cNvSpPr/>
            <p:nvPr/>
          </p:nvSpPr>
          <p:spPr>
            <a:xfrm>
              <a:off x="299880" y="1085760"/>
              <a:ext cx="4872240" cy="491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0560" y="1039680"/>
              <a:ext cx="486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99"/>
                  </a:solidFill>
                  <a:latin typeface="Comic Sans MS"/>
                </a:rPr>
                <a:t>CP discovery @ 3</a:t>
              </a:r>
              <a:r>
                <a:rPr b="0" lang="en-US" sz="32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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1"/>
            <a:srcRect l="0" t="0" r="0" b="2088"/>
            <a:stretch/>
          </p:blipFill>
          <p:spPr>
            <a:xfrm>
              <a:off x="411120" y="1566720"/>
              <a:ext cx="4562640" cy="41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568080" y="4125960"/>
              <a:ext cx="2437560" cy="901800"/>
            </a:xfrm>
            <a:prstGeom prst="rect">
              <a:avLst/>
            </a:prstGeom>
            <a:solidFill>
              <a:srgbClr val="f4e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3399"/>
                  </a:solidFill>
                  <a:latin typeface="Comic Sans MS"/>
                </a:rPr>
                <a:t>2yrs (+)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3399"/>
                  </a:solidFill>
                  <a:latin typeface="Comic Sans MS"/>
                </a:rPr>
                <a:t>8yrs (-)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-189000" y="5504040"/>
              <a:ext cx="2637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399"/>
                  </a:solidFill>
                  <a:latin typeface="Comic Sans MS"/>
                </a:rPr>
                <a:t>preliminary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844720" y="3174840"/>
              <a:ext cx="36828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767320" y="2951280"/>
              <a:ext cx="24663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66ff"/>
                  </a:solidFill>
                  <a:latin typeface="Comic Sans MS"/>
                </a:rPr>
                <a:t>Old Opti.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819520" y="3632040"/>
              <a:ext cx="368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30960" y="3408480"/>
              <a:ext cx="25822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00"/>
                  </a:solidFill>
                  <a:latin typeface="Comic Sans MS"/>
                </a:rPr>
                <a:t>New Opti.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A possible schema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3572640" y="5519880"/>
            <a:ext cx="5608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+ BetaBeam: see M. Mezzetto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+ ATM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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see Th. Schwetz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119160" y="5560920"/>
            <a:ext cx="49521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Machin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R. Garoby &amp; M. Lindroo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712440" y="930240"/>
            <a:ext cx="8274240" cy="4291200"/>
            <a:chOff x="712440" y="930240"/>
            <a:chExt cx="8274240" cy="4291200"/>
          </a:xfrm>
        </p:grpSpPr>
        <p:grpSp>
          <p:nvGrpSpPr>
            <p:cNvPr id="90" name=""/>
            <p:cNvGrpSpPr/>
            <p:nvPr/>
          </p:nvGrpSpPr>
          <p:grpSpPr>
            <a:xfrm>
              <a:off x="712440" y="930240"/>
              <a:ext cx="8274240" cy="4291200"/>
              <a:chOff x="712440" y="930240"/>
              <a:chExt cx="8274240" cy="4291200"/>
            </a:xfrm>
          </p:grpSpPr>
          <p:sp>
            <p:nvSpPr>
              <p:cNvPr id="91" name=""/>
              <p:cNvSpPr/>
              <p:nvPr/>
            </p:nvSpPr>
            <p:spPr>
              <a:xfrm>
                <a:off x="774720" y="971640"/>
                <a:ext cx="8146800" cy="4217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pic>
            <p:nvPicPr>
              <p:cNvPr id="9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86040" y="930240"/>
                <a:ext cx="5300640" cy="4291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3" name=""/>
              <p:cNvGrpSpPr/>
              <p:nvPr/>
            </p:nvGrpSpPr>
            <p:grpSpPr>
              <a:xfrm>
                <a:off x="820800" y="2247840"/>
                <a:ext cx="4771800" cy="2692080"/>
                <a:chOff x="820800" y="2247840"/>
                <a:chExt cx="4771800" cy="2692080"/>
              </a:xfrm>
            </p:grpSpPr>
            <p:pic>
              <p:nvPicPr>
                <p:cNvPr id="9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20800" y="2247840"/>
                  <a:ext cx="4771800" cy="2692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"/>
                <p:cNvSpPr/>
                <p:nvPr/>
              </p:nvSpPr>
              <p:spPr>
                <a:xfrm>
                  <a:off x="4449600" y="2466720"/>
                  <a:ext cx="867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Comic Sans MS"/>
                      <a:ea typeface="Osaka"/>
                    </a:rPr>
                    <a:t>TRE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" name=""/>
              <p:cNvSpPr/>
              <p:nvPr/>
            </p:nvSpPr>
            <p:spPr>
              <a:xfrm>
                <a:off x="4862880" y="1326960"/>
                <a:ext cx="3234600" cy="581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CERN SPL</a:t>
                </a:r>
                <a:endParaRPr b="0" lang="en-US" sz="3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12440" y="1625760"/>
                <a:ext cx="3498120" cy="581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LSM-Fréjus</a:t>
                </a:r>
                <a:endParaRPr b="0" lang="en-US" sz="3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3717720" y="1989000"/>
              <a:ext cx="33886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Comic Sans MS"/>
                </a:rPr>
                <a:t>Near detector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5544720" y="2577960"/>
              <a:ext cx="2624040" cy="12589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20067000">
              <a:off x="5617440" y="3332880"/>
              <a:ext cx="269820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130km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015000" y="5041800"/>
            <a:ext cx="3228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Related talk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Evolution of the performanc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" y="5737320"/>
            <a:ext cx="582120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True values: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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CP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/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 =-0.85, 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03, 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4,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5%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xternal precison on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2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5440" y="1087560"/>
            <a:ext cx="37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2yrs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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, 8 yrs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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245160" y="1616040"/>
            <a:ext cx="9076320" cy="3936600"/>
            <a:chOff x="245160" y="1616040"/>
            <a:chExt cx="9076320" cy="3936600"/>
          </a:xfrm>
        </p:grpSpPr>
        <p:pic>
          <p:nvPicPr>
            <p:cNvPr id="401" name="" descr=""/>
            <p:cNvPicPr/>
            <p:nvPr/>
          </p:nvPicPr>
          <p:blipFill>
            <a:blip r:embed="rId1"/>
            <a:stretch/>
          </p:blipFill>
          <p:spPr>
            <a:xfrm>
              <a:off x="1386000" y="2025720"/>
              <a:ext cx="2647800" cy="2876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2" name=""/>
            <p:cNvGrpSpPr/>
            <p:nvPr/>
          </p:nvGrpSpPr>
          <p:grpSpPr>
            <a:xfrm>
              <a:off x="1213560" y="4840200"/>
              <a:ext cx="3036960" cy="691560"/>
              <a:chOff x="1213560" y="4840200"/>
              <a:chExt cx="3036960" cy="691560"/>
            </a:xfrm>
          </p:grpSpPr>
          <p:sp>
            <p:nvSpPr>
              <p:cNvPr id="403" name=""/>
              <p:cNvSpPr/>
              <p:nvPr/>
            </p:nvSpPr>
            <p:spPr>
              <a:xfrm>
                <a:off x="1213560" y="4840200"/>
                <a:ext cx="180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0.02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801080" y="4840200"/>
                <a:ext cx="180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0.04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445480" y="4840200"/>
                <a:ext cx="180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0.06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588320" y="5091120"/>
                <a:ext cx="23018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3399"/>
                    </a:solidFill>
                    <a:latin typeface="Comic Sans MS"/>
                  </a:rPr>
                  <a:t>sin</a:t>
                </a:r>
                <a:r>
                  <a:rPr b="1" lang="fr-FR" sz="2000" spc="-1" strike="noStrike" baseline="30000">
                    <a:solidFill>
                      <a:srgbClr val="003399"/>
                    </a:solidFill>
                    <a:latin typeface="Comic Sans MS"/>
                  </a:rPr>
                  <a:t>2</a:t>
                </a:r>
                <a:r>
                  <a:rPr b="1" lang="fr-FR" sz="2000" spc="-1" strike="noStrike">
                    <a:solidFill>
                      <a:srgbClr val="003399"/>
                    </a:solidFill>
                    <a:latin typeface="Comic Sans MS"/>
                  </a:rPr>
                  <a:t>2</a:t>
                </a:r>
                <a:r>
                  <a:rPr b="1" lang="fr-FR" sz="20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</a:t>
                </a:r>
                <a:r>
                  <a:rPr b="1" lang="fr-FR" sz="2000" spc="-1" strike="noStrike" baseline="-25000">
                    <a:solidFill>
                      <a:srgbClr val="003399"/>
                    </a:solidFill>
                    <a:latin typeface="Comic Sans MS"/>
                  </a:rPr>
                  <a:t>13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245160" y="1930320"/>
              <a:ext cx="1803240" cy="2975760"/>
              <a:chOff x="245160" y="1930320"/>
              <a:chExt cx="1803240" cy="2975760"/>
            </a:xfrm>
          </p:grpSpPr>
          <p:sp>
            <p:nvSpPr>
              <p:cNvPr id="408" name=""/>
              <p:cNvSpPr/>
              <p:nvPr/>
            </p:nvSpPr>
            <p:spPr>
              <a:xfrm>
                <a:off x="438120" y="4568760"/>
                <a:ext cx="1581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-1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45160" y="3755880"/>
                <a:ext cx="1754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-0.5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2800" y="2843280"/>
                <a:ext cx="151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39840" y="1930320"/>
                <a:ext cx="168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0.5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16200000">
                <a:off x="78840" y="3186000"/>
                <a:ext cx="173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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1346040" y="2509920"/>
              <a:ext cx="2740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“</a:t>
              </a:r>
              <a:r>
                <a:rPr b="0" lang="en-GB" sz="20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</a:t>
              </a: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Fact opt.”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5361840" y="1996920"/>
              <a:ext cx="3959640" cy="3555720"/>
              <a:chOff x="5361840" y="1996920"/>
              <a:chExt cx="3959640" cy="3555720"/>
            </a:xfrm>
          </p:grpSpPr>
          <p:pic>
            <p:nvPicPr>
              <p:cNvPr id="41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591160" y="2033640"/>
                <a:ext cx="2590920" cy="2876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16" name=""/>
              <p:cNvGrpSpPr/>
              <p:nvPr/>
            </p:nvGrpSpPr>
            <p:grpSpPr>
              <a:xfrm>
                <a:off x="5361840" y="4861080"/>
                <a:ext cx="3036960" cy="691560"/>
                <a:chOff x="5361840" y="4861080"/>
                <a:chExt cx="3036960" cy="69156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5361840" y="4861080"/>
                  <a:ext cx="1805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0.02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5949360" y="4861080"/>
                  <a:ext cx="1805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0.04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6593760" y="4861080"/>
                  <a:ext cx="1805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0.06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5736600" y="5112000"/>
                  <a:ext cx="23018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000" spc="-1" strike="noStrike">
                      <a:solidFill>
                        <a:srgbClr val="003399"/>
                      </a:solidFill>
                      <a:latin typeface="Comic Sans MS"/>
                    </a:rPr>
                    <a:t>sin</a:t>
                  </a:r>
                  <a:r>
                    <a:rPr b="1" lang="fr-FR" sz="2000" spc="-1" strike="noStrike" baseline="30000">
                      <a:solidFill>
                        <a:srgbClr val="003399"/>
                      </a:solidFill>
                      <a:latin typeface="Comic Sans MS"/>
                    </a:rPr>
                    <a:t>2</a:t>
                  </a:r>
                  <a:r>
                    <a:rPr b="1" lang="fr-FR" sz="2000" spc="-1" strike="noStrike">
                      <a:solidFill>
                        <a:srgbClr val="003399"/>
                      </a:solidFill>
                      <a:latin typeface="Comic Sans MS"/>
                    </a:rPr>
                    <a:t>2</a:t>
                  </a:r>
                  <a:r>
                    <a:rPr b="1" lang="fr-FR" sz="2000" spc="-1" strike="noStrike">
                      <a:solidFill>
                        <a:srgbClr val="003399"/>
                      </a:solidFill>
                      <a:latin typeface="Symbol"/>
                      <a:ea typeface="Symbol"/>
                    </a:rPr>
                    <a:t></a:t>
                  </a:r>
                  <a:r>
                    <a:rPr b="1" lang="fr-FR" sz="2000" spc="-1" strike="noStrike" baseline="-25000">
                      <a:solidFill>
                        <a:srgbClr val="003399"/>
                      </a:solidFill>
                      <a:latin typeface="Comic Sans MS"/>
                    </a:rPr>
                    <a:t>13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7517880" y="1996920"/>
                <a:ext cx="1803600" cy="2975760"/>
                <a:chOff x="7517880" y="1996920"/>
                <a:chExt cx="1803600" cy="297576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7547040" y="4635360"/>
                  <a:ext cx="15811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-1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7566840" y="3822840"/>
                  <a:ext cx="1754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-0.5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7517880" y="2909880"/>
                  <a:ext cx="15156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0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7537680" y="1996920"/>
                  <a:ext cx="16891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0.5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rot="16200000">
                  <a:off x="7880040" y="3238200"/>
                  <a:ext cx="1736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000" spc="-1" strike="noStrike">
                      <a:solidFill>
                        <a:srgbClr val="003399"/>
                      </a:solidFill>
                      <a:latin typeface="Symbol"/>
                      <a:ea typeface="Symbol"/>
                    </a:rPr>
                    <a:t>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7" name=""/>
            <p:cNvSpPr/>
            <p:nvPr/>
          </p:nvSpPr>
          <p:spPr>
            <a:xfrm>
              <a:off x="5349600" y="2509920"/>
              <a:ext cx="309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“ </a:t>
              </a: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3.5 GeV opt.”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137280" y="4141800"/>
              <a:ext cx="1796040" cy="3373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Comic Sans MS"/>
                </a:rPr>
                <a:t>true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289400" y="4071960"/>
              <a:ext cx="2337120" cy="37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Comic Sans MS"/>
                </a:rPr>
                <a:t>Wrong </a:t>
              </a:r>
              <a:r>
                <a:rPr b="0" lang="en-GB" sz="16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</a:t>
              </a:r>
              <a:r>
                <a:rPr b="0" lang="en-GB" sz="1600" spc="-1" strike="noStrike" baseline="-25000">
                  <a:solidFill>
                    <a:srgbClr val="003399"/>
                  </a:solidFill>
                  <a:latin typeface="Comic Sans MS"/>
                </a:rPr>
                <a:t>2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251760" y="3216240"/>
              <a:ext cx="299700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Comic Sans MS"/>
                </a:rPr>
                <a:t>Wrong hierarchy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94000" y="2778120"/>
              <a:ext cx="1892520" cy="57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Comic Sans MS"/>
                </a:rPr>
                <a:t>Wrong 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Comic Sans MS"/>
                </a:rPr>
                <a:t>hierarchy and </a:t>
              </a:r>
              <a:r>
                <a:rPr b="0" lang="en-GB" sz="16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</a:t>
              </a:r>
              <a:r>
                <a:rPr b="0" lang="en-GB" sz="1600" spc="-1" strike="noStrike" baseline="-25000">
                  <a:solidFill>
                    <a:srgbClr val="003399"/>
                  </a:solidFill>
                  <a:latin typeface="Comic Sans MS"/>
                </a:rPr>
                <a:t>2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376000" y="4379760"/>
              <a:ext cx="219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90%CL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162240" y="1847880"/>
              <a:ext cx="3237480" cy="69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Solid: SPL+ATM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Dashed: SPL only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71920" y="1617840"/>
              <a:ext cx="244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8000"/>
                  </a:solidFill>
                  <a:latin typeface="Comic Sans MS"/>
                </a:rPr>
                <a:t>NNN05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23560" y="1616040"/>
              <a:ext cx="313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Comic Sans MS"/>
                </a:rPr>
                <a:t>New Prelim.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6043680" y="6418440"/>
            <a:ext cx="314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cf. Th. Schwetz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DR2 block diagram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611280" y="2246400"/>
            <a:ext cx="8229600" cy="343836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5055840" y="3780000"/>
            <a:ext cx="2900880" cy="901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1-2GeV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Eurisol, </a:t>
            </a:r>
            <a:r>
              <a:rPr b="0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249880" y="4789440"/>
            <a:ext cx="2467080" cy="901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2-3.5GeV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uperB, NuFac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035760" y="3306600"/>
            <a:ext cx="228600" cy="570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7589880" y="4998960"/>
            <a:ext cx="533520" cy="30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81440" y="1655640"/>
            <a:ext cx="55875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CERN proton complex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06800" y="1736640"/>
            <a:ext cx="138780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" descr=""/>
          <p:cNvPicPr/>
          <p:nvPr/>
        </p:nvPicPr>
        <p:blipFill>
          <a:blip r:embed="rId1"/>
          <a:srcRect l="2976" t="0" r="43607" b="43333"/>
          <a:stretch/>
        </p:blipFill>
        <p:spPr>
          <a:xfrm>
            <a:off x="542880" y="2214720"/>
            <a:ext cx="7626240" cy="335916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5645160" y="2773440"/>
            <a:ext cx="1198440" cy="549360"/>
          </a:xfrm>
          <a:solidFill>
            <a:srgbClr val="cc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3 MeV test place ready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36800" y="4245120"/>
            <a:ext cx="1022400" cy="549000"/>
          </a:xfrm>
          <a:solidFill>
            <a:srgbClr val="ffe98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Linac4 approval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254640" y="5603760"/>
            <a:ext cx="966960" cy="549360"/>
          </a:xfrm>
          <a:solidFill>
            <a:srgbClr val="ffc5e2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SPL approval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87480" y="1368360"/>
            <a:ext cx="2082600" cy="746280"/>
          </a:xfrm>
          <a:solidFill>
            <a:srgbClr val="ffff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RF tests in SM 18 of prototype structures* for Linac4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892600" y="5724360"/>
            <a:ext cx="933120" cy="3654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Verdana"/>
              </a:rPr>
              <a:t>CDR 2</a:t>
            </a:r>
            <a:endParaRPr b="0" lang="en-US" sz="19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3819600" y="5025960"/>
            <a:ext cx="261720" cy="711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768240" y="328320"/>
            <a:ext cx="68198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Global planning (R.G courtesy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transition>
    <p:pull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ummary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92200" y="1304640"/>
            <a:ext cx="82296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Higher proton energy &amp; SB Horn specific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mic Sans MS"/>
              </a:rPr>
              <a:t>new baseline: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3.5GeV/2m/40m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GB" sz="24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sensitivity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sensitivity to </a:t>
            </a:r>
            <a:r>
              <a:rPr b="0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= 0.7°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(5yrs +): gain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+25% wrt old result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down to 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1.4°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with the 10yrs mixed scenario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independently of </a:t>
            </a:r>
            <a:r>
              <a:rPr b="0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Comic Sans MS"/>
              </a:rPr>
              <a:t>CP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Improve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T2K-I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by a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factor 10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at 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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Comic Sans MS"/>
              </a:rPr>
              <a:t>CP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= 0 (5yrs +)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Can discover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P violation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Can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lve ambiguities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alone and result is improved thanks to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ATM</a:t>
            </a:r>
            <a:r>
              <a:rPr b="1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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(Th. Schwetz ‘s talk)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Complementary to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BetaBeam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to cross check the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background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and improve </a:t>
            </a:r>
            <a:r>
              <a:rPr b="0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0" lang="en-GB" sz="2400" spc="-1" strike="noStrike" baseline="-25000">
                <a:solidFill>
                  <a:srgbClr val="ff0000"/>
                </a:solidFill>
                <a:latin typeface="Comic Sans MS"/>
              </a:rPr>
              <a:t>CP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sensitivity</a:t>
            </a:r>
            <a:r>
              <a:rPr b="0" lang="en-GB" sz="2400" spc="-1" strike="noStrike" baseline="-25000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(M. Mezzetto’s talk)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55" name=""/>
          <p:cNvSpPr/>
          <p:nvPr/>
        </p:nvSpPr>
        <p:spPr>
          <a:xfrm>
            <a:off x="3690360" y="5651640"/>
            <a:ext cx="34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Thank you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3399"/>
                </a:solidFill>
                <a:latin typeface="Comic Sans MS"/>
              </a:rPr>
              <a:t>END</a:t>
            </a:r>
            <a:endParaRPr b="0" lang="en-US" sz="8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transition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Evolution of the performanc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85680" y="1428840"/>
            <a:ext cx="8972640" cy="45720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367200" y="1049400"/>
            <a:ext cx="433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40kT water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Č, 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4MW SP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510560" y="5764320"/>
            <a:ext cx="649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Improve significantly T2K-I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74720" y="3403440"/>
            <a:ext cx="4076640" cy="517680"/>
          </a:xfrm>
          <a:custGeom>
            <a:avLst/>
            <a:gdLst/>
            <a:ahLst/>
            <a:rect l="l" t="t" r="r" b="b"/>
            <a:pathLst>
              <a:path w="2568" h="326">
                <a:moveTo>
                  <a:pt x="0" y="144"/>
                </a:moveTo>
                <a:cubicBezTo>
                  <a:pt x="11" y="151"/>
                  <a:pt x="43" y="171"/>
                  <a:pt x="68" y="184"/>
                </a:cubicBezTo>
                <a:cubicBezTo>
                  <a:pt x="93" y="197"/>
                  <a:pt x="123" y="213"/>
                  <a:pt x="148" y="224"/>
                </a:cubicBezTo>
                <a:cubicBezTo>
                  <a:pt x="173" y="235"/>
                  <a:pt x="197" y="245"/>
                  <a:pt x="216" y="252"/>
                </a:cubicBezTo>
                <a:cubicBezTo>
                  <a:pt x="235" y="259"/>
                  <a:pt x="245" y="259"/>
                  <a:pt x="264" y="264"/>
                </a:cubicBezTo>
                <a:cubicBezTo>
                  <a:pt x="283" y="269"/>
                  <a:pt x="309" y="279"/>
                  <a:pt x="332" y="284"/>
                </a:cubicBezTo>
                <a:cubicBezTo>
                  <a:pt x="355" y="289"/>
                  <a:pt x="378" y="291"/>
                  <a:pt x="400" y="296"/>
                </a:cubicBezTo>
                <a:cubicBezTo>
                  <a:pt x="422" y="301"/>
                  <a:pt x="441" y="307"/>
                  <a:pt x="464" y="312"/>
                </a:cubicBezTo>
                <a:cubicBezTo>
                  <a:pt x="487" y="317"/>
                  <a:pt x="519" y="322"/>
                  <a:pt x="540" y="324"/>
                </a:cubicBezTo>
                <a:cubicBezTo>
                  <a:pt x="561" y="326"/>
                  <a:pt x="573" y="324"/>
                  <a:pt x="592" y="324"/>
                </a:cubicBezTo>
                <a:cubicBezTo>
                  <a:pt x="611" y="324"/>
                  <a:pt x="633" y="325"/>
                  <a:pt x="652" y="324"/>
                </a:cubicBezTo>
                <a:cubicBezTo>
                  <a:pt x="671" y="323"/>
                  <a:pt x="687" y="323"/>
                  <a:pt x="708" y="320"/>
                </a:cubicBezTo>
                <a:cubicBezTo>
                  <a:pt x="729" y="317"/>
                  <a:pt x="755" y="312"/>
                  <a:pt x="776" y="308"/>
                </a:cubicBezTo>
                <a:cubicBezTo>
                  <a:pt x="797" y="304"/>
                  <a:pt x="809" y="301"/>
                  <a:pt x="832" y="296"/>
                </a:cubicBezTo>
                <a:cubicBezTo>
                  <a:pt x="855" y="291"/>
                  <a:pt x="885" y="288"/>
                  <a:pt x="912" y="280"/>
                </a:cubicBezTo>
                <a:cubicBezTo>
                  <a:pt x="939" y="272"/>
                  <a:pt x="968" y="257"/>
                  <a:pt x="992" y="248"/>
                </a:cubicBezTo>
                <a:cubicBezTo>
                  <a:pt x="1016" y="239"/>
                  <a:pt x="1033" y="236"/>
                  <a:pt x="1056" y="228"/>
                </a:cubicBezTo>
                <a:cubicBezTo>
                  <a:pt x="1079" y="220"/>
                  <a:pt x="1101" y="211"/>
                  <a:pt x="1132" y="200"/>
                </a:cubicBezTo>
                <a:cubicBezTo>
                  <a:pt x="1163" y="189"/>
                  <a:pt x="1211" y="175"/>
                  <a:pt x="1240" y="164"/>
                </a:cubicBezTo>
                <a:cubicBezTo>
                  <a:pt x="1269" y="153"/>
                  <a:pt x="1280" y="145"/>
                  <a:pt x="1308" y="136"/>
                </a:cubicBezTo>
                <a:cubicBezTo>
                  <a:pt x="1336" y="127"/>
                  <a:pt x="1381" y="115"/>
                  <a:pt x="1408" y="108"/>
                </a:cubicBezTo>
                <a:cubicBezTo>
                  <a:pt x="1435" y="101"/>
                  <a:pt x="1449" y="99"/>
                  <a:pt x="1472" y="92"/>
                </a:cubicBezTo>
                <a:cubicBezTo>
                  <a:pt x="1495" y="85"/>
                  <a:pt x="1525" y="74"/>
                  <a:pt x="1544" y="68"/>
                </a:cubicBezTo>
                <a:cubicBezTo>
                  <a:pt x="1563" y="62"/>
                  <a:pt x="1573" y="59"/>
                  <a:pt x="1588" y="56"/>
                </a:cubicBezTo>
                <a:cubicBezTo>
                  <a:pt x="1603" y="53"/>
                  <a:pt x="1613" y="53"/>
                  <a:pt x="1632" y="48"/>
                </a:cubicBezTo>
                <a:cubicBezTo>
                  <a:pt x="1651" y="43"/>
                  <a:pt x="1684" y="34"/>
                  <a:pt x="1704" y="28"/>
                </a:cubicBezTo>
                <a:cubicBezTo>
                  <a:pt x="1724" y="22"/>
                  <a:pt x="1737" y="16"/>
                  <a:pt x="1752" y="12"/>
                </a:cubicBezTo>
                <a:cubicBezTo>
                  <a:pt x="1767" y="8"/>
                  <a:pt x="1779" y="5"/>
                  <a:pt x="1796" y="4"/>
                </a:cubicBezTo>
                <a:cubicBezTo>
                  <a:pt x="1813" y="3"/>
                  <a:pt x="1837" y="5"/>
                  <a:pt x="1856" y="4"/>
                </a:cubicBezTo>
                <a:cubicBezTo>
                  <a:pt x="1875" y="3"/>
                  <a:pt x="1889" y="0"/>
                  <a:pt x="1912" y="0"/>
                </a:cubicBezTo>
                <a:cubicBezTo>
                  <a:pt x="1935" y="0"/>
                  <a:pt x="1967" y="3"/>
                  <a:pt x="1996" y="4"/>
                </a:cubicBezTo>
                <a:cubicBezTo>
                  <a:pt x="2025" y="5"/>
                  <a:pt x="2056" y="4"/>
                  <a:pt x="2084" y="8"/>
                </a:cubicBezTo>
                <a:cubicBezTo>
                  <a:pt x="2112" y="12"/>
                  <a:pt x="2137" y="23"/>
                  <a:pt x="2164" y="28"/>
                </a:cubicBezTo>
                <a:cubicBezTo>
                  <a:pt x="2191" y="33"/>
                  <a:pt x="2223" y="35"/>
                  <a:pt x="2248" y="40"/>
                </a:cubicBezTo>
                <a:cubicBezTo>
                  <a:pt x="2273" y="45"/>
                  <a:pt x="2286" y="53"/>
                  <a:pt x="2312" y="60"/>
                </a:cubicBezTo>
                <a:cubicBezTo>
                  <a:pt x="2338" y="67"/>
                  <a:pt x="2369" y="72"/>
                  <a:pt x="2404" y="84"/>
                </a:cubicBezTo>
                <a:cubicBezTo>
                  <a:pt x="2439" y="96"/>
                  <a:pt x="2497" y="120"/>
                  <a:pt x="2524" y="132"/>
                </a:cubicBezTo>
                <a:cubicBezTo>
                  <a:pt x="2551" y="144"/>
                  <a:pt x="2560" y="150"/>
                  <a:pt x="2568" y="156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68240" y="3930480"/>
            <a:ext cx="408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81200" y="3506760"/>
            <a:ext cx="4051080" cy="897120"/>
          </a:xfrm>
          <a:custGeom>
            <a:avLst/>
            <a:gdLst/>
            <a:ahLst/>
            <a:rect l="l" t="t" r="r" b="b"/>
            <a:pathLst>
              <a:path w="2552" h="565">
                <a:moveTo>
                  <a:pt x="0" y="259"/>
                </a:moveTo>
                <a:cubicBezTo>
                  <a:pt x="22" y="278"/>
                  <a:pt x="44" y="297"/>
                  <a:pt x="68" y="315"/>
                </a:cubicBezTo>
                <a:cubicBezTo>
                  <a:pt x="92" y="333"/>
                  <a:pt x="111" y="347"/>
                  <a:pt x="144" y="367"/>
                </a:cubicBezTo>
                <a:cubicBezTo>
                  <a:pt x="177" y="387"/>
                  <a:pt x="231" y="414"/>
                  <a:pt x="268" y="435"/>
                </a:cubicBezTo>
                <a:cubicBezTo>
                  <a:pt x="305" y="456"/>
                  <a:pt x="327" y="475"/>
                  <a:pt x="364" y="491"/>
                </a:cubicBezTo>
                <a:cubicBezTo>
                  <a:pt x="401" y="507"/>
                  <a:pt x="457" y="520"/>
                  <a:pt x="488" y="531"/>
                </a:cubicBezTo>
                <a:cubicBezTo>
                  <a:pt x="519" y="542"/>
                  <a:pt x="526" y="550"/>
                  <a:pt x="552" y="555"/>
                </a:cubicBezTo>
                <a:cubicBezTo>
                  <a:pt x="578" y="560"/>
                  <a:pt x="615" y="562"/>
                  <a:pt x="644" y="563"/>
                </a:cubicBezTo>
                <a:cubicBezTo>
                  <a:pt x="673" y="564"/>
                  <a:pt x="701" y="565"/>
                  <a:pt x="728" y="563"/>
                </a:cubicBezTo>
                <a:cubicBezTo>
                  <a:pt x="755" y="561"/>
                  <a:pt x="780" y="556"/>
                  <a:pt x="808" y="551"/>
                </a:cubicBezTo>
                <a:cubicBezTo>
                  <a:pt x="836" y="546"/>
                  <a:pt x="863" y="540"/>
                  <a:pt x="896" y="531"/>
                </a:cubicBezTo>
                <a:cubicBezTo>
                  <a:pt x="929" y="522"/>
                  <a:pt x="969" y="516"/>
                  <a:pt x="1008" y="495"/>
                </a:cubicBezTo>
                <a:cubicBezTo>
                  <a:pt x="1047" y="474"/>
                  <a:pt x="1090" y="434"/>
                  <a:pt x="1128" y="407"/>
                </a:cubicBezTo>
                <a:cubicBezTo>
                  <a:pt x="1166" y="380"/>
                  <a:pt x="1199" y="354"/>
                  <a:pt x="1236" y="331"/>
                </a:cubicBezTo>
                <a:cubicBezTo>
                  <a:pt x="1273" y="308"/>
                  <a:pt x="1312" y="292"/>
                  <a:pt x="1352" y="267"/>
                </a:cubicBezTo>
                <a:cubicBezTo>
                  <a:pt x="1392" y="242"/>
                  <a:pt x="1428" y="211"/>
                  <a:pt x="1476" y="179"/>
                </a:cubicBezTo>
                <a:cubicBezTo>
                  <a:pt x="1524" y="147"/>
                  <a:pt x="1595" y="100"/>
                  <a:pt x="1640" y="75"/>
                </a:cubicBezTo>
                <a:cubicBezTo>
                  <a:pt x="1685" y="50"/>
                  <a:pt x="1722" y="40"/>
                  <a:pt x="1748" y="31"/>
                </a:cubicBezTo>
                <a:cubicBezTo>
                  <a:pt x="1774" y="22"/>
                  <a:pt x="1779" y="23"/>
                  <a:pt x="1796" y="19"/>
                </a:cubicBezTo>
                <a:cubicBezTo>
                  <a:pt x="1813" y="15"/>
                  <a:pt x="1824" y="9"/>
                  <a:pt x="1848" y="7"/>
                </a:cubicBezTo>
                <a:cubicBezTo>
                  <a:pt x="1872" y="5"/>
                  <a:pt x="1909" y="8"/>
                  <a:pt x="1940" y="7"/>
                </a:cubicBezTo>
                <a:cubicBezTo>
                  <a:pt x="1971" y="6"/>
                  <a:pt x="2000" y="0"/>
                  <a:pt x="2032" y="3"/>
                </a:cubicBezTo>
                <a:cubicBezTo>
                  <a:pt x="2064" y="6"/>
                  <a:pt x="2101" y="16"/>
                  <a:pt x="2132" y="23"/>
                </a:cubicBezTo>
                <a:cubicBezTo>
                  <a:pt x="2163" y="30"/>
                  <a:pt x="2193" y="36"/>
                  <a:pt x="2220" y="47"/>
                </a:cubicBezTo>
                <a:cubicBezTo>
                  <a:pt x="2247" y="58"/>
                  <a:pt x="2266" y="72"/>
                  <a:pt x="2296" y="87"/>
                </a:cubicBezTo>
                <a:cubicBezTo>
                  <a:pt x="2326" y="102"/>
                  <a:pt x="2365" y="120"/>
                  <a:pt x="2400" y="139"/>
                </a:cubicBezTo>
                <a:cubicBezTo>
                  <a:pt x="2435" y="158"/>
                  <a:pt x="2479" y="185"/>
                  <a:pt x="2504" y="203"/>
                </a:cubicBezTo>
                <a:cubicBezTo>
                  <a:pt x="2529" y="221"/>
                  <a:pt x="2540" y="234"/>
                  <a:pt x="2552" y="24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fr-FR" sz="32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 and </a:t>
            </a:r>
            <a:r>
              <a:rPr b="0" lang="fr-FR" sz="3200" spc="-1" strike="noStrike">
                <a:solidFill>
                  <a:srgbClr val="003399"/>
                </a:solidFill>
                <a:latin typeface="Symbol"/>
                <a:ea typeface="Symbol"/>
              </a:rPr>
              <a:t></a:t>
            </a:r>
            <a:r>
              <a:rPr b="0" lang="fr-FR" sz="3200" spc="-1" strike="noStrike" baseline="-25000">
                <a:solidFill>
                  <a:srgbClr val="003399"/>
                </a:solidFill>
                <a:latin typeface="Comic Sans MS"/>
              </a:rPr>
              <a:t>CP</a:t>
            </a: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ensitivity computation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6672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Use GLoBES v2.0.11 and M. Mezzetto SPL.glb file 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detector: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Water Cerenkov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440 kt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at Fréjus (130 km from CERN)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Run: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5 years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1 year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+ 4 years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2 years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+ 8 years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Computed with </a:t>
            </a:r>
            <a:r>
              <a:rPr b="0" lang="en-US" sz="2400" spc="-1" strike="noStrike">
                <a:solidFill>
                  <a:srgbClr val="003399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Comic Sans MS"/>
              </a:rPr>
              <a:t>CP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=0 (standard benchmark) and </a:t>
            </a:r>
            <a:r>
              <a:rPr b="0" lang="en-US" sz="24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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 = 0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other parameters…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= 2.5 10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= 7.1 10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66" name=""/>
          <p:cNvSpPr/>
          <p:nvPr/>
        </p:nvSpPr>
        <p:spPr>
          <a:xfrm>
            <a:off x="4240080" y="3681360"/>
            <a:ext cx="166680" cy="498600"/>
          </a:xfrm>
          <a:custGeom>
            <a:avLst/>
            <a:gdLst>
              <a:gd name="textAreaLeft" fmla="*/ 22320 w 166680"/>
              <a:gd name="textAreaRight" fmla="*/ 144360 w 166680"/>
              <a:gd name="textAreaTop" fmla="*/ 87120 h 498600"/>
              <a:gd name="textAreaBottom" fmla="*/ 361440 h 49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430160" y="3522600"/>
            <a:ext cx="129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Same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duratio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999040" y="3633840"/>
            <a:ext cx="273240" cy="1057320"/>
          </a:xfrm>
          <a:custGeom>
            <a:avLst/>
            <a:gdLst>
              <a:gd name="textAreaLeft" fmla="*/ 36360 w 273240"/>
              <a:gd name="textAreaRight" fmla="*/ 236880 w 273240"/>
              <a:gd name="textAreaTop" fmla="*/ 203040 h 1057320"/>
              <a:gd name="textAreaBottom" fmla="*/ 700200 h 105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03" stAng="-5400000" swAng="5400000"/>
                <a:lnTo>
                  <a:pt x="21600" y="10152"/>
                </a:lnTo>
                <a:arcTo wR="21600" hR="8303" stAng="0" swAng="1480565"/>
                <a:lnTo>
                  <a:pt x="13860" y="19665"/>
                </a:lnTo>
                <a:lnTo>
                  <a:pt x="0" y="17530"/>
                </a:lnTo>
                <a:lnTo>
                  <a:pt x="13860" y="11524"/>
                </a:lnTo>
                <a:lnTo>
                  <a:pt x="13860" y="14670"/>
                </a:lnTo>
                <a:arcTo wR="21600" hR="8303" stAng="1480565" swAng="-1332597"/>
                <a:lnTo>
                  <a:pt x="21466" y="9227"/>
                </a:lnTo>
                <a:arcTo wR="21600" hR="8303" stAng="-147968" swAng="-5252032"/>
                <a:close/>
              </a:path>
              <a:path fill="darkenLess" w="21600" h="21600">
                <a:moveTo>
                  <a:pt x="0" y="0"/>
                </a:moveTo>
                <a:arcTo wR="21600" hR="8303" stAng="-5400000" swAng="5400000"/>
                <a:lnTo>
                  <a:pt x="21600" y="10152"/>
                </a:lnTo>
                <a:arcTo wR="21600" hR="8303" stAng="0" swAng="-147968"/>
                <a:lnTo>
                  <a:pt x="21466" y="9227"/>
                </a:lnTo>
                <a:arcTo wR="21600" hR="8303" stAng="-147968" swAng="-5252032"/>
                <a:close/>
              </a:path>
            </a:pathLst>
          </a:cu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306480" y="3838680"/>
            <a:ext cx="20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Same statistic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48040" y="5376960"/>
            <a:ext cx="45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in</a:t>
            </a:r>
            <a:r>
              <a:rPr b="0" lang="en-US" sz="2000" spc="-1" strike="noStrike" baseline="30000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ahoma"/>
              </a:rPr>
              <a:t>23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 = 1.0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870720" y="5710320"/>
            <a:ext cx="194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in</a:t>
            </a:r>
            <a:r>
              <a:rPr b="0" lang="en-US" sz="2000" spc="-1" strike="noStrike" baseline="30000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ahoma"/>
              </a:rPr>
              <a:t>12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 = 0.82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6230520" y="3213000"/>
            <a:ext cx="25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3.5GeV Kinetic p beam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800MeV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</a:t>
            </a: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focusing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40m decay tunnel length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2m    decay tunnel radiu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5457600" cy="508644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2411280" y="4149720"/>
            <a:ext cx="1224000" cy="736200"/>
          </a:xfrm>
          <a:custGeom>
            <a:avLst/>
            <a:gdLst>
              <a:gd name="textAreaLeft" fmla="*/ 191160 w 1224000"/>
              <a:gd name="textAreaRight" fmla="*/ 1071000 w 1224000"/>
              <a:gd name="textAreaTop" fmla="*/ 183960 h 736200"/>
              <a:gd name="textAreaBottom" fmla="*/ 552240 h 736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x1/200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rot="16200000">
            <a:off x="1519560" y="3385440"/>
            <a:ext cx="1224000" cy="736200"/>
          </a:xfrm>
          <a:custGeom>
            <a:avLst/>
            <a:gdLst>
              <a:gd name="textAreaLeft" fmla="*/ 191160 w 1224000"/>
              <a:gd name="textAreaRight" fmla="*/ 1071000 w 1224000"/>
              <a:gd name="textAreaTop" fmla="*/ 183960 h 736200"/>
              <a:gd name="textAreaBottom" fmla="*/ 552240 h 736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62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x1/10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rot="18694800">
            <a:off x="2481480" y="3256560"/>
            <a:ext cx="1387440" cy="1284480"/>
          </a:xfrm>
          <a:custGeom>
            <a:avLst/>
            <a:gdLst>
              <a:gd name="textAreaLeft" fmla="*/ 216720 w 1387440"/>
              <a:gd name="textAreaRight" fmla="*/ 1214280 w 1387440"/>
              <a:gd name="textAreaTop" fmla="*/ 321120 h 1284480"/>
              <a:gd name="textAreaBottom" fmla="*/ 963360 h 1284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3704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x1/1300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744560" y="193356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837080" y="450216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290480" y="1722600"/>
            <a:ext cx="9943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1/3 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1/3 K</a:t>
            </a:r>
            <a:r>
              <a:rPr b="0" lang="fr-FR" sz="18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e3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1/3 K+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e3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548600" y="450216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1748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Flux @ 130km: - focusin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832040" y="2647800"/>
            <a:ext cx="78264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058280" y="2682720"/>
            <a:ext cx="182916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Comic Sans MS"/>
              </a:rPr>
              <a:t>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465200" y="5291280"/>
            <a:ext cx="90972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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796200" y="5275440"/>
            <a:ext cx="208368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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Comic Sans MS"/>
              </a:rPr>
              <a:t>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5 years positive focusing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-91440" y="5562720"/>
            <a:ext cx="8800200" cy="926280"/>
            <a:chOff x="-91440" y="5562720"/>
            <a:chExt cx="8800200" cy="926280"/>
          </a:xfrm>
        </p:grpSpPr>
        <p:sp>
          <p:nvSpPr>
            <p:cNvPr id="488" name=""/>
            <p:cNvSpPr/>
            <p:nvPr/>
          </p:nvSpPr>
          <p:spPr>
            <a:xfrm>
              <a:off x="-91440" y="5715000"/>
              <a:ext cx="8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est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641920" y="5729400"/>
              <a:ext cx="3066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ahoma"/>
                </a:rPr>
                <a:t>13 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&gt; 7.1 10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ahoma"/>
                </a:rPr>
                <a:t>-4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434040" y="5562720"/>
              <a:ext cx="17838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ahoma"/>
                </a:rPr>
                <a:t>k</a:t>
              </a: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 = 4.5GeV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=300MeV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257800" y="5638680"/>
              <a:ext cx="76320" cy="76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02000" y="5562720"/>
              <a:ext cx="270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unnel : 40m long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m radius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352680" y="5638680"/>
              <a:ext cx="76320" cy="76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62120" y="5638680"/>
              <a:ext cx="75960" cy="76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889200" y="990720"/>
            <a:ext cx="31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ergy comparis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4738680" y="990720"/>
            <a:ext cx="4011480" cy="4615560"/>
            <a:chOff x="4738680" y="990720"/>
            <a:chExt cx="4011480" cy="4615560"/>
          </a:xfrm>
        </p:grpSpPr>
        <p:sp>
          <p:nvSpPr>
            <p:cNvPr id="497" name=""/>
            <p:cNvSpPr/>
            <p:nvPr/>
          </p:nvSpPr>
          <p:spPr>
            <a:xfrm>
              <a:off x="5002560" y="990720"/>
              <a:ext cx="340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ocusing comparison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pic>
          <p:nvPicPr>
            <p:cNvPr id="498" name="" descr=""/>
            <p:cNvPicPr/>
            <p:nvPr/>
          </p:nvPicPr>
          <p:blipFill>
            <a:blip r:embed="rId1"/>
            <a:stretch/>
          </p:blipFill>
          <p:spPr>
            <a:xfrm>
              <a:off x="4800600" y="1447920"/>
              <a:ext cx="3849840" cy="41148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499" name=""/>
            <p:cNvSpPr/>
            <p:nvPr/>
          </p:nvSpPr>
          <p:spPr>
            <a:xfrm>
              <a:off x="7551360" y="4648320"/>
              <a:ext cx="102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</a:t>
              </a:r>
              <a:r>
                <a:rPr b="1" lang="fr-FR" sz="2400" spc="-1" strike="noStrike" baseline="-25000">
                  <a:solidFill>
                    <a:srgbClr val="ffff00"/>
                  </a:solidFill>
                  <a:latin typeface="Tahoma"/>
                </a:rPr>
                <a:t>CP </a:t>
              </a:r>
              <a:r>
                <a:rPr b="1" lang="fr-FR" sz="2400" spc="-1" strike="noStrike">
                  <a:solidFill>
                    <a:srgbClr val="ffff00"/>
                  </a:solidFill>
                  <a:latin typeface="Tahoma"/>
                </a:rPr>
                <a:t>= 0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805720" y="5194440"/>
              <a:ext cx="5173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953480" y="5335560"/>
              <a:ext cx="68904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670880" y="5165640"/>
              <a:ext cx="1079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797360" y="1490760"/>
              <a:ext cx="389160" cy="338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16200000">
              <a:off x="4260600" y="1975320"/>
              <a:ext cx="1473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23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eV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738680" y="4140360"/>
              <a:ext cx="60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293760" y="1447920"/>
            <a:ext cx="4151160" cy="4147200"/>
            <a:chOff x="293760" y="1447920"/>
            <a:chExt cx="4151160" cy="4147200"/>
          </a:xfrm>
        </p:grpSpPr>
        <p:pic>
          <p:nvPicPr>
            <p:cNvPr id="507" name="" descr=""/>
            <p:cNvPicPr/>
            <p:nvPr/>
          </p:nvPicPr>
          <p:blipFill>
            <a:blip r:embed="rId2"/>
            <a:stretch/>
          </p:blipFill>
          <p:spPr>
            <a:xfrm>
              <a:off x="406440" y="1447920"/>
              <a:ext cx="3957480" cy="41148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508" name=""/>
            <p:cNvSpPr/>
            <p:nvPr/>
          </p:nvSpPr>
          <p:spPr>
            <a:xfrm>
              <a:off x="791640" y="2895480"/>
              <a:ext cx="1511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~260MeV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276000" y="4648320"/>
              <a:ext cx="102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</a:t>
              </a:r>
              <a:r>
                <a:rPr b="1" lang="fr-FR" sz="2400" spc="-1" strike="noStrike" baseline="-25000">
                  <a:solidFill>
                    <a:srgbClr val="ffff00"/>
                  </a:solidFill>
                  <a:latin typeface="Tahoma"/>
                </a:rPr>
                <a:t>CP </a:t>
              </a:r>
              <a:r>
                <a:rPr b="1" lang="fr-FR" sz="2400" spc="-1" strike="noStrike">
                  <a:solidFill>
                    <a:srgbClr val="ffff00"/>
                  </a:solidFill>
                  <a:latin typeface="Tahoma"/>
                </a:rPr>
                <a:t>= 0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360440" y="5168880"/>
              <a:ext cx="5173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632040" y="5273640"/>
              <a:ext cx="71460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365640" y="5154480"/>
              <a:ext cx="1079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01760" y="1455840"/>
              <a:ext cx="352440" cy="345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3760" y="4178160"/>
              <a:ext cx="60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16200000">
              <a:off x="-120600" y="1975320"/>
              <a:ext cx="1473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23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eV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1403280" y="3433680"/>
            <a:ext cx="4737240" cy="787320"/>
            <a:chOff x="1403280" y="3433680"/>
            <a:chExt cx="4737240" cy="787320"/>
          </a:xfrm>
        </p:grpSpPr>
        <p:sp>
          <p:nvSpPr>
            <p:cNvPr id="517" name=""/>
            <p:cNvSpPr/>
            <p:nvPr/>
          </p:nvSpPr>
          <p:spPr>
            <a:xfrm>
              <a:off x="1403280" y="3544920"/>
              <a:ext cx="351000" cy="676080"/>
            </a:xfrm>
            <a:prstGeom prst="ellipse">
              <a:avLst/>
            </a:prstGeom>
            <a:noFill/>
            <a:ln w="1908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789520" y="3433680"/>
              <a:ext cx="351000" cy="676440"/>
            </a:xfrm>
            <a:prstGeom prst="ellipse">
              <a:avLst/>
            </a:prstGeom>
            <a:noFill/>
            <a:ln w="1908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1765440" y="3730320"/>
              <a:ext cx="4020840" cy="90360"/>
            </a:xfrm>
            <a:prstGeom prst="line">
              <a:avLst/>
            </a:prstGeom>
            <a:ln w="19080">
              <a:solidFill>
                <a:srgbClr val="000099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5599080" y="3656160"/>
            <a:ext cx="1800" cy="1503360"/>
          </a:xfrm>
          <a:prstGeom prst="line">
            <a:avLst/>
          </a:prstGeom>
          <a:ln w="19080">
            <a:solidFill>
              <a:srgbClr val="ff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260360" y="76320"/>
            <a:ext cx="7718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positive focusing vs 10 years mixed scenario.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457200" y="1401840"/>
            <a:ext cx="3925800" cy="412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4983120" y="1413000"/>
            <a:ext cx="3900600" cy="4086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24" name=""/>
          <p:cNvSpPr/>
          <p:nvPr/>
        </p:nvSpPr>
        <p:spPr>
          <a:xfrm>
            <a:off x="1257480" y="6172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47640" y="5130720"/>
            <a:ext cx="116856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303560" y="514044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81120" y="51274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666880" y="5168880"/>
            <a:ext cx="116856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283360" y="5118120"/>
            <a:ext cx="116820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175520" y="5118120"/>
            <a:ext cx="116856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811840" y="51022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176800" y="51148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755120" y="51022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20080" y="51022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233880" y="515304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598840" y="516564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015200" y="19749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y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285600" y="390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y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907720" y="188604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y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y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254080" y="386712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y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y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960480" y="977760"/>
            <a:ext cx="31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ergy comparis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245560" y="96516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cusing comparis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1711440" y="3524400"/>
            <a:ext cx="1282680" cy="1191240"/>
            <a:chOff x="1711440" y="3524400"/>
            <a:chExt cx="1282680" cy="1191240"/>
          </a:xfrm>
        </p:grpSpPr>
        <p:sp>
          <p:nvSpPr>
            <p:cNvPr id="544" name=""/>
            <p:cNvSpPr/>
            <p:nvPr/>
          </p:nvSpPr>
          <p:spPr>
            <a:xfrm>
              <a:off x="1711440" y="3524400"/>
              <a:ext cx="1282680" cy="1191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.2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.5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.5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816200" y="3746520"/>
              <a:ext cx="2160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816200" y="3988080"/>
              <a:ext cx="216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816200" y="4267440"/>
              <a:ext cx="216000" cy="0"/>
            </a:xfrm>
            <a:prstGeom prst="line">
              <a:avLst/>
            </a:prstGeom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829160" y="4521240"/>
              <a:ext cx="2156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673200" y="1523880"/>
            <a:ext cx="215640" cy="34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01400" y="415116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10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04000" y="3643200"/>
            <a:ext cx="44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5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59160" y="31226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70960" y="26020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5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01400" y="465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15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181480" y="1498680"/>
            <a:ext cx="216000" cy="34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909680" y="412596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10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012640" y="3618000"/>
            <a:ext cx="44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5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167800" y="309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909680" y="46339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15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4746600" y="1339920"/>
            <a:ext cx="1434960" cy="1554120"/>
            <a:chOff x="4746600" y="1339920"/>
            <a:chExt cx="1434960" cy="1554120"/>
          </a:xfrm>
        </p:grpSpPr>
        <p:sp>
          <p:nvSpPr>
            <p:cNvPr id="561" name=""/>
            <p:cNvSpPr/>
            <p:nvPr/>
          </p:nvSpPr>
          <p:spPr>
            <a:xfrm>
              <a:off x="4746600" y="1339920"/>
              <a:ext cx="1434960" cy="1554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00M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4.5G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00M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.5G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60M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.5G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42000" y="1536840"/>
              <a:ext cx="187200" cy="2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42000" y="2004840"/>
              <a:ext cx="199800" cy="1800"/>
            </a:xfrm>
            <a:prstGeom prst="line">
              <a:avLst/>
            </a:prstGeom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829040" y="2502000"/>
              <a:ext cx="2001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5400" y="5562720"/>
            <a:ext cx="8902440" cy="926280"/>
            <a:chOff x="5400" y="5562720"/>
            <a:chExt cx="8902440" cy="926280"/>
          </a:xfrm>
        </p:grpSpPr>
        <p:sp>
          <p:nvSpPr>
            <p:cNvPr id="566" name=""/>
            <p:cNvSpPr/>
            <p:nvPr/>
          </p:nvSpPr>
          <p:spPr>
            <a:xfrm>
              <a:off x="5400" y="5715000"/>
              <a:ext cx="8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est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638320" y="5729400"/>
              <a:ext cx="3269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ahoma"/>
                </a:rPr>
                <a:t>13 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&gt; 2.02 10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ahoma"/>
                </a:rPr>
                <a:t>-3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3530880" y="5562720"/>
              <a:ext cx="1900080" cy="926280"/>
              <a:chOff x="3530880" y="5562720"/>
              <a:chExt cx="1900080" cy="926280"/>
            </a:xfrm>
          </p:grpSpPr>
          <p:sp>
            <p:nvSpPr>
              <p:cNvPr id="569" name=""/>
              <p:cNvSpPr/>
              <p:nvPr/>
            </p:nvSpPr>
            <p:spPr>
              <a:xfrm>
                <a:off x="3530880" y="5562720"/>
                <a:ext cx="1783800" cy="92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ahoma"/>
                  </a:rPr>
                  <a:t>k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ahoma"/>
                  </a:rPr>
                  <a:t> = 3.5GeV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ahoma"/>
                  </a:rPr>
                  <a:t>=300MeV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354640" y="5638680"/>
                <a:ext cx="76320" cy="762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798840" y="5562720"/>
              <a:ext cx="2727000" cy="838080"/>
              <a:chOff x="798840" y="5562720"/>
              <a:chExt cx="2727000" cy="838080"/>
            </a:xfrm>
          </p:grpSpPr>
          <p:sp>
            <p:nvSpPr>
              <p:cNvPr id="572" name=""/>
              <p:cNvSpPr/>
              <p:nvPr/>
            </p:nvSpPr>
            <p:spPr>
              <a:xfrm>
                <a:off x="798840" y="5562720"/>
                <a:ext cx="2701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tunnel : 40m long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2m radius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49520" y="5638680"/>
                <a:ext cx="76320" cy="762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58960" y="5638680"/>
                <a:ext cx="75960" cy="762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5" name=""/>
          <p:cNvSpPr/>
          <p:nvPr/>
        </p:nvSpPr>
        <p:spPr>
          <a:xfrm>
            <a:off x="8229600" y="1403280"/>
            <a:ext cx="0" cy="368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784760" y="1866960"/>
            <a:ext cx="1265040" cy="500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8239680" y="605808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ahoma"/>
              </a:rPr>
              <a:t>90%CL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7120" y="320400"/>
            <a:ext cx="81536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PL block diagram (CDR 1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501336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20800" y="1065240"/>
            <a:ext cx="6950160" cy="12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haracteristics (Conceptual Design Report 1):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re “optimized” for a neutrino factor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the use of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EP cavities &amp; klystr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p to the highest energ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52280" y="2535120"/>
            <a:ext cx="8748720" cy="3727440"/>
            <a:chOff x="152280" y="2535120"/>
            <a:chExt cx="8748720" cy="3727440"/>
          </a:xfrm>
        </p:grpSpPr>
        <p:pic>
          <p:nvPicPr>
            <p:cNvPr id="106" name="spl_layout_02_04" descr=""/>
            <p:cNvPicPr/>
            <p:nvPr/>
          </p:nvPicPr>
          <p:blipFill>
            <a:blip r:embed="rId1"/>
            <a:stretch/>
          </p:blipFill>
          <p:spPr>
            <a:xfrm>
              <a:off x="152280" y="2841840"/>
              <a:ext cx="8748720" cy="34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5723640" y="2535120"/>
              <a:ext cx="274536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2.2GeV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2962440" y="747720"/>
            <a:ext cx="6011640" cy="43988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37960" y="10116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General comparison.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71360" y="5292720"/>
            <a:ext cx="89726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for 10 years in mixed focusing, sensitivity around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GB" sz="24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~1°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Clear complementarily between positive scenario and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beam (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</a:t>
            </a:r>
            <a:r>
              <a:rPr b="0" lang="en-GB" sz="2400" spc="-1" strike="noStrike" baseline="-25000">
                <a:solidFill>
                  <a:srgbClr val="003399"/>
                </a:solidFill>
                <a:latin typeface="Comic Sans MS"/>
              </a:rPr>
              <a:t>CP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&gt;0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1" name=""/>
          <p:cNvSpPr/>
          <p:nvPr/>
        </p:nvSpPr>
        <p:spPr>
          <a:xfrm>
            <a:off x="200160" y="3881520"/>
            <a:ext cx="269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y mixed focusing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0y mixed focusing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y positive focusing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2835360" y="3244320"/>
            <a:ext cx="1542960" cy="884520"/>
          </a:xfrm>
          <a:prstGeom prst="line">
            <a:avLst/>
          </a:prstGeom>
          <a:ln w="3816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2873520" y="3586320"/>
            <a:ext cx="1604880" cy="860400"/>
          </a:xfrm>
          <a:prstGeom prst="line">
            <a:avLst/>
          </a:prstGeom>
          <a:ln w="38160">
            <a:solidFill>
              <a:srgbClr val="d6009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2860560" y="3987360"/>
            <a:ext cx="1995480" cy="7254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uper Beam </a:t>
            </a: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&amp;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beta Beam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1755720" y="1098720"/>
            <a:ext cx="5827680" cy="46782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587" name=""/>
          <p:cNvSpPr/>
          <p:nvPr/>
        </p:nvSpPr>
        <p:spPr>
          <a:xfrm>
            <a:off x="2435040" y="5854680"/>
            <a:ext cx="462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discovery potential curv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177440" y="131436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ahoma"/>
              </a:rPr>
              <a:t>SPL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610040" y="5754600"/>
            <a:ext cx="1564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ahoma"/>
              </a:rPr>
              <a:t>M. Mezzetto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Tahoma"/>
              </a:rPr>
              <a:t>Villars SPSC 0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466360" y="3179880"/>
            <a:ext cx="1243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beam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3228840" y="2576160"/>
            <a:ext cx="393840" cy="6764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303800" y="4211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8000"/>
                </a:solidFill>
                <a:latin typeface="Tahoma"/>
              </a:rPr>
              <a:t>Combined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022640" y="1968480"/>
            <a:ext cx="15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Thi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optimisa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4452840" y="2624040"/>
            <a:ext cx="225360" cy="3333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Neutrino Flux 100km away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480960" y="1363680"/>
            <a:ext cx="7645680" cy="5092200"/>
            <a:chOff x="480960" y="1363680"/>
            <a:chExt cx="7645680" cy="5092200"/>
          </a:xfrm>
        </p:grpSpPr>
        <p:pic>
          <p:nvPicPr>
            <p:cNvPr id="597" name="" descr=""/>
            <p:cNvPicPr/>
            <p:nvPr/>
          </p:nvPicPr>
          <p:blipFill>
            <a:blip r:embed="rId1"/>
            <a:stretch/>
          </p:blipFill>
          <p:spPr>
            <a:xfrm>
              <a:off x="528840" y="1363680"/>
              <a:ext cx="7597800" cy="500364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598" name=""/>
            <p:cNvSpPr/>
            <p:nvPr/>
          </p:nvSpPr>
          <p:spPr>
            <a:xfrm>
              <a:off x="3176280" y="3643560"/>
              <a:ext cx="112284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Arial"/>
                </a:rPr>
                <a:t>E</a:t>
              </a:r>
              <a:r>
                <a:rPr b="1" lang="fr-FR" sz="1600" spc="-1" strike="noStrike" baseline="-25000">
                  <a:solidFill>
                    <a:srgbClr val="000099"/>
                  </a:solidFill>
                  <a:latin typeface="Arial"/>
                </a:rPr>
                <a:t>kine </a:t>
              </a:r>
              <a:r>
                <a:rPr b="1" lang="fr-FR" sz="1600" spc="-1" strike="noStrike">
                  <a:solidFill>
                    <a:srgbClr val="000099"/>
                  </a:solidFill>
                  <a:latin typeface="Arial"/>
                </a:rPr>
                <a:t>(GeV)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948360" y="3655800"/>
              <a:ext cx="112284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Arial"/>
                </a:rPr>
                <a:t>E</a:t>
              </a:r>
              <a:r>
                <a:rPr b="1" lang="fr-FR" sz="1600" spc="-1" strike="noStrike" baseline="-25000">
                  <a:solidFill>
                    <a:srgbClr val="000099"/>
                  </a:solidFill>
                  <a:latin typeface="Arial"/>
                </a:rPr>
                <a:t>kine </a:t>
              </a:r>
              <a:r>
                <a:rPr b="1" lang="fr-FR" sz="1600" spc="-1" strike="noStrike">
                  <a:solidFill>
                    <a:srgbClr val="000099"/>
                  </a:solidFill>
                  <a:latin typeface="Arial"/>
                </a:rPr>
                <a:t>(GeV)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6200000">
              <a:off x="-315000" y="3795840"/>
              <a:ext cx="20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99"/>
                  </a:solidFill>
                  <a:latin typeface="Tahoma"/>
                </a:rPr>
                <a:t>evts/100m</a:t>
              </a:r>
              <a:r>
                <a:rPr b="0" lang="fr-FR" sz="2400" spc="-1" strike="noStrike" baseline="30000">
                  <a:solidFill>
                    <a:srgbClr val="000099"/>
                  </a:solidFill>
                  <a:latin typeface="Tahoma"/>
                </a:rPr>
                <a:t>2</a:t>
              </a:r>
              <a:r>
                <a:rPr b="0" lang="fr-FR" sz="2400" spc="-1" strike="noStrike">
                  <a:solidFill>
                    <a:srgbClr val="000099"/>
                  </a:solidFill>
                  <a:latin typeface="Tahoma"/>
                </a:rPr>
                <a:t>/y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770280" y="6177960"/>
              <a:ext cx="457200" cy="12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516800" y="6177960"/>
              <a:ext cx="495360" cy="13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265200" y="6085080"/>
              <a:ext cx="1122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Arial"/>
                </a:rPr>
                <a:t>E</a:t>
              </a:r>
              <a:r>
                <a:rPr b="1" lang="fr-FR" sz="1600" spc="-1" strike="noStrike" baseline="-25000">
                  <a:solidFill>
                    <a:srgbClr val="000099"/>
                  </a:solidFill>
                  <a:latin typeface="Arial"/>
                </a:rPr>
                <a:t>kine </a:t>
              </a:r>
              <a:r>
                <a:rPr b="1" lang="fr-FR" sz="1600" spc="-1" strike="noStrike">
                  <a:solidFill>
                    <a:srgbClr val="000099"/>
                  </a:solidFill>
                  <a:latin typeface="Arial"/>
                </a:rPr>
                <a:t>(GeV)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986160" y="6060600"/>
              <a:ext cx="1122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Arial"/>
                </a:rPr>
                <a:t>E</a:t>
              </a:r>
              <a:r>
                <a:rPr b="1" lang="fr-FR" sz="1600" spc="-1" strike="noStrike" baseline="-25000">
                  <a:solidFill>
                    <a:srgbClr val="000099"/>
                  </a:solidFill>
                  <a:latin typeface="Arial"/>
                </a:rPr>
                <a:t>kine </a:t>
              </a:r>
              <a:r>
                <a:rPr b="1" lang="fr-FR" sz="1600" spc="-1" strike="noStrike">
                  <a:solidFill>
                    <a:srgbClr val="000099"/>
                  </a:solidFill>
                  <a:latin typeface="Arial"/>
                </a:rPr>
                <a:t>(GeV)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7137360" y="1155600"/>
            <a:ext cx="2006640" cy="1219320"/>
            <a:chOff x="7137360" y="1155600"/>
            <a:chExt cx="2006640" cy="1219320"/>
          </a:xfrm>
        </p:grpSpPr>
        <p:sp>
          <p:nvSpPr>
            <p:cNvPr id="606" name=""/>
            <p:cNvSpPr/>
            <p:nvPr/>
          </p:nvSpPr>
          <p:spPr>
            <a:xfrm>
              <a:off x="7137360" y="1155600"/>
              <a:ext cx="1930680" cy="1219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94560" y="1206360"/>
              <a:ext cx="154944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from </a:t>
              </a:r>
              <a:r>
                <a:rPr b="1" lang="en-US" sz="16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</a:t>
              </a: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 and </a:t>
              </a:r>
              <a:r>
                <a:rPr b="1" lang="en-US" sz="16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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from K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from K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Symbol"/>
                  <a:ea typeface="Symbol"/>
                </a:rPr>
                <a:t>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239240" y="1396800"/>
              <a:ext cx="355320" cy="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239240" y="1752480"/>
              <a:ext cx="355320" cy="0"/>
            </a:xfrm>
            <a:prstGeom prst="line">
              <a:avLst/>
            </a:prstGeom>
            <a:ln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239240" y="2120760"/>
              <a:ext cx="3553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7156080" y="69840"/>
            <a:ext cx="1879920" cy="10922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=3.5GeV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~3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0MeV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 = 40m,R=2m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180240" y="1042920"/>
            <a:ext cx="17550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99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focusing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MARS vs FLUKA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5197320" cy="3524400"/>
          </a:xfrm>
          <a:prstGeom prst="rect">
            <a:avLst/>
          </a:prstGeom>
          <a:ln w="38160">
            <a:solidFill>
              <a:srgbClr val="3333cc"/>
            </a:solidFill>
            <a:miter/>
          </a:ln>
        </p:spPr>
      </p:pic>
      <p:sp>
        <p:nvSpPr>
          <p:cNvPr id="615" name=""/>
          <p:cNvSpPr/>
          <p:nvPr/>
        </p:nvSpPr>
        <p:spPr>
          <a:xfrm>
            <a:off x="5796000" y="3213000"/>
            <a:ext cx="2209680" cy="131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t the entrance of the SB decay tunnel (after the horn focusing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016360" y="5661000"/>
            <a:ext cx="48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Discrepancies reduced in the beam lin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032600" y="5589720"/>
            <a:ext cx="195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 = 1m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 angular cu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689160" y="6272280"/>
            <a:ext cx="19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. Cazes thesi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lux calculation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Low energy </a:t>
            </a:r>
            <a:r>
              <a:rPr b="0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 Small boost </a:t>
            </a:r>
            <a:r>
              <a:rPr b="0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low focusing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Need a high number of events (~</a:t>
            </a:r>
            <a:r>
              <a:rPr b="0" lang="fr-FR" sz="2800" spc="-1" strike="noStrike">
                <a:solidFill>
                  <a:srgbClr val="003399"/>
                </a:solidFill>
                <a:latin typeface="Comic Sans MS"/>
                <a:ea typeface="Arial"/>
              </a:rPr>
              <a:t>10</a:t>
            </a:r>
            <a:r>
              <a:rPr b="0" lang="fr-FR" sz="2800" spc="-1" strike="noStrike" baseline="30000">
                <a:solidFill>
                  <a:srgbClr val="003399"/>
                </a:solidFill>
                <a:latin typeface="Comic Sans MS"/>
                <a:ea typeface="Arial"/>
              </a:rPr>
              <a:t>15</a:t>
            </a:r>
            <a:r>
              <a:rPr b="0" lang="fr-FR" sz="2800" spc="-1" strike="noStrike">
                <a:solidFill>
                  <a:srgbClr val="003399"/>
                </a:solidFill>
                <a:latin typeface="Comic Sans MS"/>
                <a:ea typeface="Arial"/>
              </a:rPr>
              <a:t> evts!!!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Use probability (M. Donega thesis approach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Each time a pion, 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a muon, or a kaon is decayed by Geant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mpute the probability for the neutrino to reach the detector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Use this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probability as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eight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, and fill an histogram with the neutrino energy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There are few kaons 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therfore a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kaon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produced in the target is duplicated many times:</a:t>
            </a:r>
            <a:r>
              <a:rPr b="0" lang="en-GB" sz="2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ffff"/>
                </a:solidFill>
                <a:latin typeface="Monotype Corsiva"/>
              </a:rPr>
              <a:t>~100.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Give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utrino spectrum.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1" name=""/>
          <p:cNvSpPr/>
          <p:nvPr/>
        </p:nvSpPr>
        <p:spPr>
          <a:xfrm rot="21579000">
            <a:off x="183600" y="4682880"/>
            <a:ext cx="730440" cy="674280"/>
          </a:xfrm>
          <a:prstGeom prst="rightArrow">
            <a:avLst>
              <a:gd name="adj1" fmla="val 50000"/>
              <a:gd name="adj2" fmla="val 27082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17120" y="22500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Gradients at 700 MHz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0600"/>
            <a:ext cx="5518080" cy="11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Last test performed</a:t>
            </a: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 in CryHoLab (July 04):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5-cells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700 MHz ß=0.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65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Nb cavity A</a:t>
            </a: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5-01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from CEA</a:t>
            </a: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/Saclay and 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IPN-Orsay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88000" y="1614600"/>
            <a:ext cx="1758960" cy="42814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08120" y="90648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rom Stephane Chel, HIPPI04, Frankfurt, sep04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6600" y="5938920"/>
            <a:ext cx="850428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LEP cavities may have worked 350MHz &amp; 3.6MV/m effective gradient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NuFact Note 040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46280" y="2359080"/>
            <a:ext cx="5256000" cy="3602160"/>
            <a:chOff x="746280" y="2359080"/>
            <a:chExt cx="5256000" cy="3602160"/>
          </a:xfrm>
        </p:grpSpPr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746280" y="2359080"/>
              <a:ext cx="5256000" cy="360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3165480" y="3454560"/>
              <a:ext cx="485640" cy="4586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New optimization questioned @ MMW04*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32880" y="1333080"/>
            <a:ext cx="489132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ff"/>
                </a:solidFill>
                <a:latin typeface="Comic Sans MS"/>
              </a:rPr>
              <a:t>Particle production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ff"/>
                </a:solidFill>
                <a:latin typeface="Comic Sans MS"/>
              </a:rPr>
              <a:t>Horn design optimisation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ff"/>
                </a:solidFill>
                <a:latin typeface="Comic Sans MS"/>
              </a:rPr>
              <a:t>Decay tunnel parameter optimisation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ff"/>
                </a:solidFill>
                <a:latin typeface="Comic Sans MS"/>
              </a:rPr>
              <a:t>Flux computation at Fréjus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ff"/>
                </a:solidFill>
                <a:latin typeface="Symbol"/>
                <a:ea typeface="Symbol"/>
              </a:rPr>
              <a:t></a:t>
            </a:r>
            <a:r>
              <a:rPr b="0" lang="en-GB" sz="2400" spc="-1" strike="noStrike" baseline="-25000">
                <a:solidFill>
                  <a:srgbClr val="3366ff"/>
                </a:solidFill>
                <a:latin typeface="Symbol"/>
                <a:ea typeface="Symbol"/>
              </a:rPr>
              <a:t></a:t>
            </a:r>
            <a:r>
              <a:rPr b="0" lang="en-GB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66ff"/>
                </a:solidFill>
                <a:latin typeface="Comic Sans MS"/>
              </a:rPr>
              <a:t>and </a:t>
            </a:r>
            <a:r>
              <a:rPr b="0" lang="en-GB" sz="2400" spc="-1" strike="noStrike">
                <a:solidFill>
                  <a:srgbClr val="3366ff"/>
                </a:solidFill>
                <a:latin typeface="Symbol"/>
                <a:ea typeface="Symbol"/>
              </a:rPr>
              <a:t></a:t>
            </a:r>
            <a:r>
              <a:rPr b="0" lang="en-GB" sz="2400" spc="-1" strike="noStrike" baseline="-25000">
                <a:solidFill>
                  <a:srgbClr val="3366ff"/>
                </a:solidFill>
                <a:latin typeface="Comic Sans MS"/>
              </a:rPr>
              <a:t>CP</a:t>
            </a:r>
            <a:r>
              <a:rPr b="0" lang="en-GB" sz="2400" spc="-1" strike="noStrike">
                <a:solidFill>
                  <a:srgbClr val="3366ff"/>
                </a:solidFill>
                <a:latin typeface="Comic Sans MS"/>
              </a:rPr>
              <a:t> sensitivity</a:t>
            </a:r>
            <a:r>
              <a:rPr b="0" lang="en-GB" sz="2800" spc="-1" strike="noStrike">
                <a:solidFill>
                  <a:srgbClr val="3366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839200" y="6102360"/>
            <a:ext cx="293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LAL – 04-102  submitted to EPJC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252760" y="1023840"/>
            <a:ext cx="2055960" cy="1067040"/>
            <a:chOff x="5252760" y="1023840"/>
            <a:chExt cx="2055960" cy="1067040"/>
          </a:xfrm>
        </p:grpSpPr>
        <p:sp>
          <p:nvSpPr>
            <p:cNvPr id="120" name=""/>
            <p:cNvSpPr/>
            <p:nvPr/>
          </p:nvSpPr>
          <p:spPr>
            <a:xfrm>
              <a:off x="5252760" y="10238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99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27280" y="1633680"/>
              <a:ext cx="4572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37120" y="1481040"/>
              <a:ext cx="228600" cy="381240"/>
            </a:xfrm>
            <a:prstGeom prst="ellipse">
              <a:avLst/>
            </a:prstGeom>
            <a:solidFill>
              <a:srgbClr val="000099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89400" y="1481040"/>
              <a:ext cx="685800" cy="381240"/>
            </a:xfrm>
            <a:prstGeom prst="rect">
              <a:avLst/>
            </a:prstGeom>
            <a:solidFill>
              <a:srgbClr val="000099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698880" y="1481040"/>
              <a:ext cx="228600" cy="381240"/>
            </a:xfrm>
            <a:prstGeom prst="ellipse">
              <a:avLst/>
            </a:prstGeom>
            <a:solidFill>
              <a:srgbClr val="000099"/>
            </a:solidFill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03800" y="1709640"/>
              <a:ext cx="3049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7003800" y="1328400"/>
              <a:ext cx="228600" cy="1522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03800" y="1938240"/>
              <a:ext cx="228600" cy="15264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402160" y="2135160"/>
            <a:ext cx="2006640" cy="990720"/>
            <a:chOff x="5402160" y="2135160"/>
            <a:chExt cx="2006640" cy="990720"/>
          </a:xfrm>
        </p:grpSpPr>
        <p:sp>
          <p:nvSpPr>
            <p:cNvPr id="129" name=""/>
            <p:cNvSpPr/>
            <p:nvPr/>
          </p:nvSpPr>
          <p:spPr>
            <a:xfrm>
              <a:off x="5402160" y="2592360"/>
              <a:ext cx="6098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02160" y="2745000"/>
              <a:ext cx="6098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012000" y="2287800"/>
              <a:ext cx="990360" cy="3045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12000" y="2745000"/>
              <a:ext cx="990360" cy="3045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5402160" y="2211480"/>
              <a:ext cx="0" cy="380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402160" y="2745000"/>
              <a:ext cx="0" cy="380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02160" y="2211480"/>
              <a:ext cx="160020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02360" y="2211480"/>
              <a:ext cx="0" cy="763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02160" y="3125880"/>
              <a:ext cx="160020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02360" y="3049560"/>
              <a:ext cx="0" cy="763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02160" y="2668680"/>
              <a:ext cx="6098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630760" y="2427480"/>
              <a:ext cx="1447920" cy="241200"/>
            </a:xfrm>
            <a:custGeom>
              <a:avLst/>
              <a:gdLst/>
              <a:ahLst/>
              <a:rect l="l" t="t" r="r" b="b"/>
              <a:pathLst>
                <a:path w="912" h="152">
                  <a:moveTo>
                    <a:pt x="0" y="152"/>
                  </a:moveTo>
                  <a:cubicBezTo>
                    <a:pt x="24" y="116"/>
                    <a:pt x="48" y="80"/>
                    <a:pt x="96" y="56"/>
                  </a:cubicBezTo>
                  <a:cubicBezTo>
                    <a:pt x="144" y="32"/>
                    <a:pt x="216" y="16"/>
                    <a:pt x="288" y="8"/>
                  </a:cubicBezTo>
                  <a:cubicBezTo>
                    <a:pt x="360" y="0"/>
                    <a:pt x="424" y="8"/>
                    <a:pt x="528" y="8"/>
                  </a:cubicBezTo>
                  <a:cubicBezTo>
                    <a:pt x="632" y="8"/>
                    <a:pt x="772" y="8"/>
                    <a:pt x="912" y="8"/>
                  </a:cubicBezTo>
                </a:path>
              </a:pathLst>
            </a:custGeom>
            <a:noFill/>
            <a:ln w="1908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04160" y="213516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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692680" y="3303720"/>
            <a:ext cx="2184120" cy="898560"/>
            <a:chOff x="5692680" y="3303720"/>
            <a:chExt cx="2184120" cy="898560"/>
          </a:xfrm>
        </p:grpSpPr>
        <p:sp>
          <p:nvSpPr>
            <p:cNvPr id="143" name=""/>
            <p:cNvSpPr/>
            <p:nvPr/>
          </p:nvSpPr>
          <p:spPr>
            <a:xfrm>
              <a:off x="6562440" y="3592440"/>
              <a:ext cx="6854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33840" y="3592440"/>
              <a:ext cx="456840" cy="609840"/>
            </a:xfrm>
            <a:prstGeom prst="ellipse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19640" y="3592440"/>
              <a:ext cx="456840" cy="609840"/>
            </a:xfrm>
            <a:prstGeom prst="ellipse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62440" y="4202280"/>
              <a:ext cx="6854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92680" y="335916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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89520" y="3917880"/>
              <a:ext cx="4568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484400" y="3303720"/>
              <a:ext cx="39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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324560" y="3917880"/>
              <a:ext cx="4568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5807160" y="4435200"/>
            <a:ext cx="1295280" cy="533520"/>
            <a:chOff x="5807160" y="4435200"/>
            <a:chExt cx="1295280" cy="533520"/>
          </a:xfrm>
        </p:grpSpPr>
        <p:sp>
          <p:nvSpPr>
            <p:cNvPr id="152" name=""/>
            <p:cNvSpPr/>
            <p:nvPr/>
          </p:nvSpPr>
          <p:spPr>
            <a:xfrm flipV="1">
              <a:off x="5807160" y="4435200"/>
              <a:ext cx="0" cy="53316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7160" y="4968720"/>
              <a:ext cx="12952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07160" y="4489920"/>
              <a:ext cx="971280" cy="470880"/>
            </a:xfrm>
            <a:custGeom>
              <a:avLst/>
              <a:gdLst/>
              <a:ahLst/>
              <a:rect l="l" t="t" r="r" b="b"/>
              <a:pathLst>
                <a:path w="720" h="424">
                  <a:moveTo>
                    <a:pt x="0" y="424"/>
                  </a:moveTo>
                  <a:cubicBezTo>
                    <a:pt x="36" y="384"/>
                    <a:pt x="72" y="344"/>
                    <a:pt x="96" y="280"/>
                  </a:cubicBezTo>
                  <a:cubicBezTo>
                    <a:pt x="120" y="216"/>
                    <a:pt x="128" y="80"/>
                    <a:pt x="144" y="40"/>
                  </a:cubicBezTo>
                  <a:cubicBezTo>
                    <a:pt x="160" y="0"/>
                    <a:pt x="176" y="24"/>
                    <a:pt x="192" y="40"/>
                  </a:cubicBezTo>
                  <a:cubicBezTo>
                    <a:pt x="208" y="56"/>
                    <a:pt x="224" y="96"/>
                    <a:pt x="240" y="136"/>
                  </a:cubicBezTo>
                  <a:cubicBezTo>
                    <a:pt x="256" y="176"/>
                    <a:pt x="256" y="240"/>
                    <a:pt x="288" y="280"/>
                  </a:cubicBezTo>
                  <a:cubicBezTo>
                    <a:pt x="320" y="320"/>
                    <a:pt x="360" y="352"/>
                    <a:pt x="432" y="376"/>
                  </a:cubicBezTo>
                  <a:cubicBezTo>
                    <a:pt x="504" y="400"/>
                    <a:pt x="612" y="412"/>
                    <a:pt x="720" y="424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784840" y="5272200"/>
            <a:ext cx="838080" cy="838080"/>
            <a:chOff x="5784840" y="5272200"/>
            <a:chExt cx="838080" cy="838080"/>
          </a:xfrm>
        </p:grpSpPr>
        <p:sp>
          <p:nvSpPr>
            <p:cNvPr id="156" name=""/>
            <p:cNvSpPr/>
            <p:nvPr/>
          </p:nvSpPr>
          <p:spPr>
            <a:xfrm>
              <a:off x="5784840" y="5272200"/>
              <a:ext cx="838080" cy="838080"/>
            </a:xfrm>
            <a:prstGeom prst="rect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57080" y="5272200"/>
              <a:ext cx="465480" cy="838080"/>
            </a:xfrm>
            <a:custGeom>
              <a:avLst/>
              <a:gdLst/>
              <a:ahLst/>
              <a:rect l="l" t="t" r="r" b="b"/>
              <a:pathLst>
                <a:path w="400" h="672">
                  <a:moveTo>
                    <a:pt x="64" y="0"/>
                  </a:moveTo>
                  <a:cubicBezTo>
                    <a:pt x="88" y="16"/>
                    <a:pt x="112" y="32"/>
                    <a:pt x="112" y="48"/>
                  </a:cubicBezTo>
                  <a:cubicBezTo>
                    <a:pt x="112" y="64"/>
                    <a:pt x="64" y="72"/>
                    <a:pt x="64" y="96"/>
                  </a:cubicBezTo>
                  <a:cubicBezTo>
                    <a:pt x="64" y="120"/>
                    <a:pt x="112" y="168"/>
                    <a:pt x="112" y="192"/>
                  </a:cubicBezTo>
                  <a:cubicBezTo>
                    <a:pt x="112" y="216"/>
                    <a:pt x="56" y="224"/>
                    <a:pt x="64" y="240"/>
                  </a:cubicBezTo>
                  <a:cubicBezTo>
                    <a:pt x="72" y="256"/>
                    <a:pt x="168" y="264"/>
                    <a:pt x="160" y="288"/>
                  </a:cubicBezTo>
                  <a:cubicBezTo>
                    <a:pt x="152" y="312"/>
                    <a:pt x="32" y="352"/>
                    <a:pt x="16" y="384"/>
                  </a:cubicBezTo>
                  <a:cubicBezTo>
                    <a:pt x="0" y="416"/>
                    <a:pt x="0" y="432"/>
                    <a:pt x="64" y="480"/>
                  </a:cubicBezTo>
                  <a:cubicBezTo>
                    <a:pt x="128" y="528"/>
                    <a:pt x="264" y="600"/>
                    <a:pt x="400" y="672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934320" y="5268960"/>
            <a:ext cx="841320" cy="838080"/>
            <a:chOff x="6934320" y="5268960"/>
            <a:chExt cx="841320" cy="838080"/>
          </a:xfrm>
        </p:grpSpPr>
        <p:sp>
          <p:nvSpPr>
            <p:cNvPr id="159" name=""/>
            <p:cNvSpPr/>
            <p:nvPr/>
          </p:nvSpPr>
          <p:spPr>
            <a:xfrm>
              <a:off x="6937560" y="5268960"/>
              <a:ext cx="838080" cy="838080"/>
            </a:xfrm>
            <a:prstGeom prst="rect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34320" y="5506920"/>
              <a:ext cx="833400" cy="341280"/>
            </a:xfrm>
            <a:custGeom>
              <a:avLst/>
              <a:gdLst/>
              <a:ahLst/>
              <a:rect l="l" t="t" r="r" b="b"/>
              <a:pathLst>
                <a:path w="525" h="215">
                  <a:moveTo>
                    <a:pt x="0" y="104"/>
                  </a:moveTo>
                  <a:cubicBezTo>
                    <a:pt x="43" y="159"/>
                    <a:pt x="86" y="215"/>
                    <a:pt x="147" y="200"/>
                  </a:cubicBezTo>
                  <a:cubicBezTo>
                    <a:pt x="208" y="185"/>
                    <a:pt x="303" y="28"/>
                    <a:pt x="366" y="14"/>
                  </a:cubicBezTo>
                  <a:cubicBezTo>
                    <a:pt x="429" y="0"/>
                    <a:pt x="477" y="58"/>
                    <a:pt x="525" y="116"/>
                  </a:cubicBezTo>
                </a:path>
              </a:pathLst>
            </a:custGeom>
            <a:noFill/>
            <a:ln w="1908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21760" y="6249960"/>
            <a:ext cx="57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99"/>
                </a:solidFill>
                <a:latin typeface="Comic Sans MS"/>
              </a:rPr>
              <a:t>*: Multi MegaWatt Workshop at CERN 26-28 May 04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Particle production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08200" y="1523520"/>
            <a:ext cx="8030880" cy="414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Proton beam :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Comic Sans MS"/>
              </a:rPr>
              <a:t>Pencil lik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fr-FR" sz="2400" spc="-1" strike="noStrike" baseline="-25000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fr-FR" sz="2400" spc="-1" strike="noStrike">
                <a:solidFill>
                  <a:srgbClr val="000099"/>
                </a:solidFill>
                <a:latin typeface="Comic Sans MS"/>
              </a:rPr>
              <a:t>=</a:t>
            </a:r>
            <a:r>
              <a:rPr b="1" lang="fr-FR" sz="2400" spc="-1" strike="noStrike">
                <a:solidFill>
                  <a:srgbClr val="000099"/>
                </a:solidFill>
                <a:latin typeface="Comic Sans MS"/>
              </a:rPr>
              <a:t>2.2GeV</a:t>
            </a:r>
            <a:r>
              <a:rPr b="0" lang="fr-FR" sz="24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1" lang="fr-FR" sz="2400" spc="-1" strike="noStrike">
                <a:solidFill>
                  <a:srgbClr val="008000"/>
                </a:solidFill>
                <a:latin typeface="Comic Sans MS"/>
              </a:rPr>
              <a:t>3.5GeV</a:t>
            </a:r>
            <a:r>
              <a:rPr b="0" lang="fr-FR" sz="2400" spc="-1" strike="noStrike">
                <a:solidFill>
                  <a:srgbClr val="008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Target : 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Comic Sans MS"/>
              </a:rPr>
              <a:t>30cm long cylinder, </a:t>
            </a:r>
            <a:r>
              <a:rPr b="0" lang="fr-FR" sz="2400" spc="-1" strike="noStrike">
                <a:solidFill>
                  <a:srgbClr val="000099"/>
                </a:solidFill>
                <a:latin typeface="Symbol"/>
                <a:ea typeface="Symbol"/>
              </a:rPr>
              <a:t></a:t>
            </a:r>
            <a:r>
              <a:rPr b="0" lang="fr-FR" sz="2400" spc="-1" strike="noStrike">
                <a:solidFill>
                  <a:srgbClr val="000099"/>
                </a:solidFill>
                <a:latin typeface="Comic Sans MS"/>
              </a:rPr>
              <a:t>15mm in Liq. Hg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Comic Sans MS"/>
              </a:rPr>
              <a:t>FLUKA 2002.4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Normalized to a power of 4MW: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1.14 10</a:t>
            </a:r>
            <a:r>
              <a:rPr b="0" lang="en-GB" sz="2800" spc="-1" strike="noStrike" baseline="30000">
                <a:solidFill>
                  <a:srgbClr val="000099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 pot/yr @ 2.2GeV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0.71 10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pot/yr @ 3.5GeV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uperBeam vs </a:t>
            </a:r>
            <a:r>
              <a:rPr b="1" lang="en-GB" sz="32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Fact Optic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84360" y="1362240"/>
            <a:ext cx="3735360" cy="4516920"/>
            <a:chOff x="684360" y="1362240"/>
            <a:chExt cx="3735360" cy="4516920"/>
          </a:xfrm>
        </p:grpSpPr>
        <p:grpSp>
          <p:nvGrpSpPr>
            <p:cNvPr id="166" name=""/>
            <p:cNvGrpSpPr/>
            <p:nvPr/>
          </p:nvGrpSpPr>
          <p:grpSpPr>
            <a:xfrm>
              <a:off x="684360" y="1800360"/>
              <a:ext cx="3735360" cy="3166560"/>
              <a:chOff x="684360" y="1800360"/>
              <a:chExt cx="3735360" cy="3166560"/>
            </a:xfrm>
          </p:grpSpPr>
          <p:sp>
            <p:nvSpPr>
              <p:cNvPr id="167" name=""/>
              <p:cNvSpPr/>
              <p:nvPr/>
            </p:nvSpPr>
            <p:spPr>
              <a:xfrm flipV="1">
                <a:off x="2174760" y="2158560"/>
                <a:ext cx="0" cy="280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84360" y="3527280"/>
                <a:ext cx="3457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832400" y="1800360"/>
                <a:ext cx="7372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r>
                  <a:rPr b="0" lang="en-GB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x</a:t>
                </a: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/p</a:t>
                </a:r>
                <a:r>
                  <a:rPr b="0" lang="en-GB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z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104720" y="331164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6200000">
                <a:off x="1992240" y="2279520"/>
                <a:ext cx="396720" cy="2460600"/>
              </a:xfrm>
              <a:prstGeom prst="ellipse">
                <a:avLst/>
              </a:prstGeom>
              <a:noFill/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667520" y="2879640"/>
                <a:ext cx="1181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20 mrad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299760" y="3598920"/>
                <a:ext cx="63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2 m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1023840" y="1362240"/>
              <a:ext cx="221364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99"/>
                  </a:solidFill>
                  <a:latin typeface="Comic Sans MS"/>
                </a:rPr>
                <a:t>Super Beam</a:t>
              </a:r>
              <a:endParaRPr b="0" lang="en-US" sz="2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88920" y="5175360"/>
              <a:ext cx="241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Spot size @ 130km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Decay tunnel size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780080" y="1360440"/>
            <a:ext cx="3814920" cy="4516920"/>
            <a:chOff x="4780080" y="1360440"/>
            <a:chExt cx="3814920" cy="4516920"/>
          </a:xfrm>
        </p:grpSpPr>
        <p:grpSp>
          <p:nvGrpSpPr>
            <p:cNvPr id="177" name=""/>
            <p:cNvGrpSpPr/>
            <p:nvPr/>
          </p:nvGrpSpPr>
          <p:grpSpPr>
            <a:xfrm>
              <a:off x="4859280" y="1800360"/>
              <a:ext cx="3735720" cy="3166920"/>
              <a:chOff x="4859280" y="1800360"/>
              <a:chExt cx="3735720" cy="3166920"/>
            </a:xfrm>
          </p:grpSpPr>
          <p:sp>
            <p:nvSpPr>
              <p:cNvPr id="178" name=""/>
              <p:cNvSpPr/>
              <p:nvPr/>
            </p:nvSpPr>
            <p:spPr>
              <a:xfrm flipV="1">
                <a:off x="6350040" y="2159280"/>
                <a:ext cx="0" cy="28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859280" y="3527640"/>
                <a:ext cx="3457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989680" y="2519640"/>
                <a:ext cx="718920" cy="2087280"/>
              </a:xfrm>
              <a:prstGeom prst="ellipse">
                <a:avLst/>
              </a:prstGeom>
              <a:noFill/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007320" y="1800360"/>
                <a:ext cx="7372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r>
                  <a:rPr b="0" lang="en-GB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x</a:t>
                </a: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/p</a:t>
                </a:r>
                <a:r>
                  <a:rPr b="0" lang="en-GB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z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280000" y="331164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398280" y="2266920"/>
                <a:ext cx="848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½ rad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768720" y="3527640"/>
                <a:ext cx="833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30cm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5845680" y="1360440"/>
              <a:ext cx="10479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</a:t>
              </a:r>
              <a:r>
                <a:rPr b="0" lang="en-GB" sz="2800" spc="-1" strike="noStrike">
                  <a:solidFill>
                    <a:srgbClr val="008000"/>
                  </a:solidFill>
                  <a:latin typeface="Comic Sans MS"/>
                </a:rPr>
                <a:t>Fact</a:t>
              </a:r>
              <a:endParaRPr b="0" lang="en-US" sz="2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80080" y="5173560"/>
              <a:ext cx="3155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Decay channel solenoids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Aperture and B strength 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5698800" y="6302520"/>
            <a:ext cx="34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Thanks S. Gilardoni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Pion production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016520" y="0"/>
            <a:ext cx="3217320" cy="1366920"/>
            <a:chOff x="4016520" y="0"/>
            <a:chExt cx="3217320" cy="1366920"/>
          </a:xfrm>
        </p:grpSpPr>
        <p:sp>
          <p:nvSpPr>
            <p:cNvPr id="190" name=""/>
            <p:cNvSpPr/>
            <p:nvPr/>
          </p:nvSpPr>
          <p:spPr>
            <a:xfrm>
              <a:off x="4713120" y="935280"/>
              <a:ext cx="57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6200000">
              <a:off x="5702760" y="378360"/>
              <a:ext cx="541080" cy="1079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5867280" y="432000"/>
              <a:ext cx="502920" cy="287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867280" y="1079640"/>
              <a:ext cx="502920" cy="287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657840" y="935280"/>
              <a:ext cx="57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016520" y="50328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p (2.2GeV)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47240" y="0"/>
              <a:ext cx="631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</a:t>
              </a:r>
              <a:r>
                <a:rPr b="0" lang="en-GB" sz="4000" spc="-1" strike="noStrike" baseline="30000">
                  <a:solidFill>
                    <a:srgbClr val="0000ff"/>
                  </a:solidFill>
                  <a:latin typeface="Symbol"/>
                  <a:ea typeface="Symbol"/>
                </a:rPr>
                <a:t></a:t>
              </a:r>
              <a:endParaRPr b="0" lang="en-US" sz="4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88080" y="719280"/>
              <a:ext cx="52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Hg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1762560" y="1373040"/>
            <a:ext cx="7821360" cy="4325760"/>
            <a:chOff x="1762560" y="1373040"/>
            <a:chExt cx="7821360" cy="4325760"/>
          </a:xfrm>
        </p:grpSpPr>
        <p:grpSp>
          <p:nvGrpSpPr>
            <p:cNvPr id="199" name=""/>
            <p:cNvGrpSpPr/>
            <p:nvPr/>
          </p:nvGrpSpPr>
          <p:grpSpPr>
            <a:xfrm>
              <a:off x="1762560" y="1373040"/>
              <a:ext cx="7821360" cy="4325760"/>
              <a:chOff x="1762560" y="1373040"/>
              <a:chExt cx="7821360" cy="4325760"/>
            </a:xfrm>
          </p:grpSpPr>
          <p:pic>
            <p:nvPicPr>
              <p:cNvPr id="20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817640" y="1720440"/>
                <a:ext cx="5867280" cy="3978360"/>
              </a:xfrm>
              <a:prstGeom prst="rect">
                <a:avLst/>
              </a:prstGeom>
              <a:ln w="38160">
                <a:solidFill>
                  <a:srgbClr val="ffff00"/>
                </a:solidFill>
                <a:miter/>
              </a:ln>
            </p:spPr>
          </p:pic>
          <p:grpSp>
            <p:nvGrpSpPr>
              <p:cNvPr id="201" name=""/>
              <p:cNvGrpSpPr/>
              <p:nvPr/>
            </p:nvGrpSpPr>
            <p:grpSpPr>
              <a:xfrm>
                <a:off x="2854440" y="3625560"/>
                <a:ext cx="1512720" cy="1664640"/>
                <a:chOff x="2854440" y="3625560"/>
                <a:chExt cx="1512720" cy="1664640"/>
              </a:xfrm>
            </p:grpSpPr>
            <p:sp>
              <p:nvSpPr>
                <p:cNvPr id="202" name=""/>
                <p:cNvSpPr/>
                <p:nvPr/>
              </p:nvSpPr>
              <p:spPr>
                <a:xfrm flipV="1">
                  <a:off x="2854440" y="4296960"/>
                  <a:ext cx="0" cy="9932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V="1">
                  <a:off x="4367160" y="4296960"/>
                  <a:ext cx="0" cy="9932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203640" y="3625560"/>
                  <a:ext cx="802440" cy="398880"/>
                </a:xfrm>
                <a:prstGeom prst="rect">
                  <a:avLst/>
                </a:prstGeom>
                <a:noFill/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99"/>
                      </a:solidFill>
                      <a:latin typeface="Symbol"/>
                      <a:ea typeface="Symbol"/>
                    </a:rPr>
                    <a:t></a:t>
                  </a:r>
                  <a:r>
                    <a:rPr b="0" lang="fr-FR" sz="2000" spc="-1" strike="noStrike">
                      <a:solidFill>
                        <a:srgbClr val="000099"/>
                      </a:solidFill>
                      <a:latin typeface="Tahoma"/>
                    </a:rPr>
                    <a:t>Fact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V="1">
                  <a:off x="2854440" y="4078080"/>
                  <a:ext cx="407520" cy="2188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 flipV="1">
                  <a:off x="3959280" y="4078080"/>
                  <a:ext cx="407520" cy="2188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4496040" y="3624120"/>
                <a:ext cx="487080" cy="1666080"/>
                <a:chOff x="4496040" y="3624120"/>
                <a:chExt cx="487080" cy="1666080"/>
              </a:xfrm>
            </p:grpSpPr>
            <p:grpSp>
              <p:nvGrpSpPr>
                <p:cNvPr id="208" name=""/>
                <p:cNvGrpSpPr/>
                <p:nvPr/>
              </p:nvGrpSpPr>
              <p:grpSpPr>
                <a:xfrm>
                  <a:off x="4500720" y="3995280"/>
                  <a:ext cx="466920" cy="1294920"/>
                  <a:chOff x="4500720" y="3995280"/>
                  <a:chExt cx="466920" cy="129492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 flipV="1">
                    <a:off x="4500720" y="3995280"/>
                    <a:ext cx="0" cy="12949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flipV="1">
                    <a:off x="4967640" y="3995280"/>
                    <a:ext cx="0" cy="12949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1" name=""/>
                <p:cNvSpPr/>
                <p:nvPr/>
              </p:nvSpPr>
              <p:spPr>
                <a:xfrm>
                  <a:off x="4496040" y="3624120"/>
                  <a:ext cx="487080" cy="398880"/>
                </a:xfrm>
                <a:prstGeom prst="rect">
                  <a:avLst/>
                </a:prstGeom>
                <a:noFill/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99"/>
                      </a:solidFill>
                      <a:latin typeface="Tahoma"/>
                    </a:rPr>
                    <a:t>SB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2" name=""/>
              <p:cNvSpPr/>
              <p:nvPr/>
            </p:nvSpPr>
            <p:spPr>
              <a:xfrm>
                <a:off x="1762560" y="1373040"/>
                <a:ext cx="2661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99"/>
                    </a:solidFill>
                    <a:latin typeface="Tahoma"/>
                  </a:rPr>
                  <a:t>at the exit of the target</a:t>
                </a:r>
                <a:endParaRPr b="0" lang="en-US" sz="18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627360" y="3282840"/>
                <a:ext cx="14400" cy="31896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497320" y="2820600"/>
                <a:ext cx="615744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3399"/>
                    </a:solidFill>
                    <a:latin typeface="Comic Sans MS"/>
                  </a:rPr>
                  <a:t>Horn optimisation by S. Gilardoni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 flipV="1">
                <a:off x="5045040" y="3876480"/>
                <a:ext cx="563760" cy="1584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037120" y="3562200"/>
                <a:ext cx="454680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3399"/>
                    </a:solidFill>
                    <a:latin typeface="Comic Sans MS"/>
                  </a:rPr>
                  <a:t>This new optimisation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6259680" y="1746000"/>
              <a:ext cx="1262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ahoma"/>
                </a:rPr>
                <a:t>2 10</a:t>
              </a:r>
              <a:r>
                <a:rPr b="1" lang="fr-FR" sz="2000" spc="-1" strike="noStrike" baseline="30000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1" lang="fr-FR" sz="2000" spc="-1" strike="noStrike">
                  <a:solidFill>
                    <a:srgbClr val="000000"/>
                  </a:solidFill>
                  <a:latin typeface="Tahoma"/>
                </a:rPr>
                <a:t> pot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259280" y="5856120"/>
            <a:ext cx="7113240" cy="56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Rule of thumb: E</a:t>
            </a:r>
            <a:r>
              <a:rPr b="0" lang="en-GB" sz="24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/3~ E</a:t>
            </a:r>
            <a:r>
              <a:rPr b="0" lang="en-GB" sz="24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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(MeV)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</a:t>
            </a:r>
            <a:r>
              <a:rPr b="1" lang="en-GB" sz="2800" spc="-1" strike="noStrike">
                <a:solidFill>
                  <a:srgbClr val="003399"/>
                </a:solidFill>
                <a:latin typeface="Math3"/>
                <a:ea typeface="Math3"/>
              </a:rPr>
              <a:t>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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2.L(km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Kaon production?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0" name=""/>
          <p:cNvSpPr/>
          <p:nvPr/>
        </p:nvSpPr>
        <p:spPr>
          <a:xfrm>
            <a:off x="328680" y="4572000"/>
            <a:ext cx="56912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Tahoma"/>
              </a:rPr>
              <a:t>at 2.2GeV :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0.26 </a:t>
            </a:r>
            <a:r>
              <a:rPr b="0" lang="fr-FR" sz="24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fr-FR" sz="2400" spc="-1" strike="noStrike" baseline="30000">
                <a:solidFill>
                  <a:srgbClr val="000099"/>
                </a:solidFill>
                <a:latin typeface="Tahoma"/>
              </a:rPr>
              <a:t>+</a:t>
            </a: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/s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0.8 10</a:t>
            </a:r>
            <a:r>
              <a:rPr b="0" lang="fr-FR" sz="2400" spc="-1" strike="noStrike" baseline="30000">
                <a:solidFill>
                  <a:srgbClr val="000099"/>
                </a:solidFill>
                <a:latin typeface="Tahoma"/>
              </a:rPr>
              <a:t>-3</a:t>
            </a: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 K</a:t>
            </a:r>
            <a:r>
              <a:rPr b="0" lang="fr-FR" sz="2400" spc="-1" strike="noStrike" baseline="30000">
                <a:solidFill>
                  <a:srgbClr val="000099"/>
                </a:solidFill>
                <a:latin typeface="Tahoma"/>
              </a:rPr>
              <a:t>+</a:t>
            </a: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/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80400" y="914400"/>
            <a:ext cx="30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see BENE meeting 11/09/03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49800" y="4965840"/>
            <a:ext cx="3200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Tahoma"/>
              </a:rPr>
              <a:t>at 3.5GeV :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ahoma"/>
              </a:rPr>
              <a:t>0.29 </a:t>
            </a:r>
            <a:r>
              <a:rPr b="0" lang="fr-FR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fr-FR" sz="2400" spc="-1" strike="noStrike" baseline="30000">
                <a:solidFill>
                  <a:srgbClr val="ff0000"/>
                </a:solidFill>
                <a:latin typeface="Tahoma"/>
              </a:rPr>
              <a:t>+</a:t>
            </a:r>
            <a:r>
              <a:rPr b="0" lang="fr-FR" sz="2400" spc="-1" strike="noStrike">
                <a:solidFill>
                  <a:srgbClr val="ff0000"/>
                </a:solidFill>
                <a:latin typeface="Tahoma"/>
              </a:rPr>
              <a:t>/s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ahoma"/>
              </a:rPr>
              <a:t>2.8 10</a:t>
            </a:r>
            <a:r>
              <a:rPr b="0" lang="fr-FR" sz="2400" spc="-1" strike="noStrike" baseline="30000">
                <a:solidFill>
                  <a:srgbClr val="ff0000"/>
                </a:solidFill>
                <a:latin typeface="Tahoma"/>
              </a:rPr>
              <a:t>-3</a:t>
            </a:r>
            <a:r>
              <a:rPr b="0" lang="fr-FR" sz="2400" spc="-1" strike="noStrike">
                <a:solidFill>
                  <a:srgbClr val="ff0000"/>
                </a:solidFill>
                <a:latin typeface="Tahoma"/>
              </a:rPr>
              <a:t> K</a:t>
            </a:r>
            <a:r>
              <a:rPr b="0" lang="fr-FR" sz="2400" spc="-1" strike="noStrike" baseline="30000">
                <a:solidFill>
                  <a:srgbClr val="ff0000"/>
                </a:solidFill>
                <a:latin typeface="Tahoma"/>
              </a:rPr>
              <a:t>+</a:t>
            </a:r>
            <a:r>
              <a:rPr b="0" lang="fr-FR" sz="2400" spc="-1" strike="noStrike">
                <a:solidFill>
                  <a:srgbClr val="ff0000"/>
                </a:solidFill>
                <a:latin typeface="Tahoma"/>
              </a:rPr>
              <a:t>/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34040" y="4954680"/>
            <a:ext cx="28242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8000"/>
                </a:solidFill>
                <a:latin typeface="Tahoma"/>
              </a:rPr>
              <a:t>at 4.5GeV :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8000"/>
                </a:solidFill>
                <a:latin typeface="Tahoma"/>
              </a:rPr>
              <a:t>0.32 </a:t>
            </a:r>
            <a:r>
              <a:rPr b="0" lang="fr-FR" sz="2400" spc="-1" strike="noStrike">
                <a:solidFill>
                  <a:srgbClr val="008000"/>
                </a:solidFill>
                <a:latin typeface="Symbol"/>
                <a:ea typeface="Symbol"/>
              </a:rPr>
              <a:t></a:t>
            </a:r>
            <a:r>
              <a:rPr b="0" lang="fr-FR" sz="2400" spc="-1" strike="noStrike" baseline="30000">
                <a:solidFill>
                  <a:srgbClr val="008000"/>
                </a:solidFill>
                <a:latin typeface="Tahoma"/>
              </a:rPr>
              <a:t>+</a:t>
            </a:r>
            <a:r>
              <a:rPr b="0" lang="fr-FR" sz="2400" spc="-1" strike="noStrike">
                <a:solidFill>
                  <a:srgbClr val="008000"/>
                </a:solidFill>
                <a:latin typeface="Tahoma"/>
              </a:rPr>
              <a:t>/s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8000"/>
                </a:solidFill>
                <a:latin typeface="Tahoma"/>
              </a:rPr>
              <a:t>5.2 10</a:t>
            </a:r>
            <a:r>
              <a:rPr b="0" lang="fr-FR" sz="2400" spc="-1" strike="noStrike" baseline="30000">
                <a:solidFill>
                  <a:srgbClr val="008000"/>
                </a:solidFill>
                <a:latin typeface="Tahoma"/>
              </a:rPr>
              <a:t>-3</a:t>
            </a:r>
            <a:r>
              <a:rPr b="0" lang="fr-FR" sz="2400" spc="-1" strike="noStrike">
                <a:solidFill>
                  <a:srgbClr val="008000"/>
                </a:solidFill>
                <a:latin typeface="Tahoma"/>
              </a:rPr>
              <a:t> K</a:t>
            </a:r>
            <a:r>
              <a:rPr b="0" lang="fr-FR" sz="2400" spc="-1" strike="noStrike" baseline="30000">
                <a:solidFill>
                  <a:srgbClr val="008000"/>
                </a:solidFill>
                <a:latin typeface="Tahoma"/>
              </a:rPr>
              <a:t>+</a:t>
            </a:r>
            <a:r>
              <a:rPr b="0" lang="fr-FR" sz="2400" spc="-1" strike="noStrike">
                <a:solidFill>
                  <a:srgbClr val="008000"/>
                </a:solidFill>
                <a:latin typeface="Tahoma"/>
              </a:rPr>
              <a:t>/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30640" y="5076720"/>
            <a:ext cx="88920" cy="123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99040" y="5067360"/>
            <a:ext cx="88920" cy="123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51640" y="1263600"/>
            <a:ext cx="8573400" cy="3346560"/>
            <a:chOff x="251640" y="1263600"/>
            <a:chExt cx="8573400" cy="3346560"/>
          </a:xfrm>
        </p:grpSpPr>
        <p:pic>
          <p:nvPicPr>
            <p:cNvPr id="227" name="" descr=""/>
            <p:cNvPicPr/>
            <p:nvPr/>
          </p:nvPicPr>
          <p:blipFill>
            <a:blip r:embed="rId1">
              <a:lum contrast="36000"/>
            </a:blip>
            <a:stretch/>
          </p:blipFill>
          <p:spPr>
            <a:xfrm>
              <a:off x="420840" y="1263600"/>
              <a:ext cx="8404200" cy="3322800"/>
            </a:xfrm>
            <a:prstGeom prst="rect">
              <a:avLst/>
            </a:prstGeom>
            <a:ln w="38160">
              <a:solidFill>
                <a:srgbClr val="ffff00"/>
              </a:solidFill>
              <a:miter/>
            </a:ln>
          </p:spPr>
        </p:pic>
        <p:sp>
          <p:nvSpPr>
            <p:cNvPr id="228" name=""/>
            <p:cNvSpPr/>
            <p:nvPr/>
          </p:nvSpPr>
          <p:spPr>
            <a:xfrm>
              <a:off x="7719840" y="4398840"/>
              <a:ext cx="638280" cy="1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78000" y="2655720"/>
              <a:ext cx="263520" cy="0"/>
            </a:xfrm>
            <a:prstGeom prst="line">
              <a:avLst/>
            </a:prstGeom>
            <a:ln cap="rnd" w="19080">
              <a:solidFill>
                <a:srgbClr val="0000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27160" y="1728720"/>
              <a:ext cx="801720" cy="107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411880" y="1728720"/>
              <a:ext cx="725400" cy="90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494160" y="4359240"/>
              <a:ext cx="701640" cy="15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494160" y="4259520"/>
              <a:ext cx="819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Tahoma"/>
                </a:rPr>
                <a:t>E</a:t>
              </a:r>
              <a:r>
                <a:rPr b="1" lang="en-GB" sz="1400" spc="-1" strike="noStrike" baseline="-25000">
                  <a:solidFill>
                    <a:srgbClr val="000099"/>
                  </a:solidFill>
                  <a:latin typeface="Tahoma"/>
                </a:rPr>
                <a:t>p</a:t>
              </a:r>
              <a:r>
                <a:rPr b="1" lang="en-GB" sz="1400" spc="-1" strike="noStrike">
                  <a:solidFill>
                    <a:srgbClr val="000099"/>
                  </a:solidFill>
                  <a:latin typeface="Tahoma"/>
                </a:rPr>
                <a:t>(GeV)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80240" y="4273920"/>
              <a:ext cx="819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Tahoma"/>
                </a:rPr>
                <a:t>E</a:t>
              </a:r>
              <a:r>
                <a:rPr b="1" lang="en-GB" sz="1400" spc="-1" strike="noStrike" baseline="-25000">
                  <a:solidFill>
                    <a:srgbClr val="000099"/>
                  </a:solidFill>
                  <a:latin typeface="Tahoma"/>
                </a:rPr>
                <a:t>p</a:t>
              </a:r>
              <a:r>
                <a:rPr b="1" lang="en-GB" sz="1400" spc="-1" strike="noStrike">
                  <a:solidFill>
                    <a:srgbClr val="000099"/>
                  </a:solidFill>
                  <a:latin typeface="Tahoma"/>
                </a:rPr>
                <a:t>(GeV)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35840" y="1827720"/>
              <a:ext cx="40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 baseline="30000">
                  <a:solidFill>
                    <a:srgbClr val="000099"/>
                  </a:solidFill>
                  <a:latin typeface="Tahoma"/>
                </a:rPr>
                <a:t>+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359120" y="2437560"/>
              <a:ext cx="36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 baseline="30000">
                  <a:solidFill>
                    <a:srgbClr val="000099"/>
                  </a:solidFill>
                  <a:latin typeface="Tahoma"/>
                </a:rPr>
                <a:t>-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84720" y="189288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K</a:t>
              </a:r>
              <a:r>
                <a:rPr b="0" lang="en-US" sz="2000" spc="-1" strike="noStrike" baseline="30000">
                  <a:solidFill>
                    <a:srgbClr val="000099"/>
                  </a:solidFill>
                  <a:latin typeface="Tahoma"/>
                </a:rPr>
                <a:t>+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42920" y="3674160"/>
              <a:ext cx="38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K</a:t>
              </a:r>
              <a:r>
                <a:rPr b="0" lang="en-US" sz="2000" spc="-1" strike="noStrike" baseline="30000">
                  <a:solidFill>
                    <a:srgbClr val="000099"/>
                  </a:solidFill>
                  <a:latin typeface="Tahoma"/>
                </a:rPr>
                <a:t>-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23760" y="287100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K</a:t>
              </a:r>
              <a:r>
                <a:rPr b="0" lang="en-US" sz="2000" spc="-1" strike="noStrike" baseline="30000">
                  <a:solidFill>
                    <a:srgbClr val="000099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015920" y="3639960"/>
              <a:ext cx="1917720" cy="474840"/>
            </a:xfrm>
            <a:custGeom>
              <a:avLst/>
              <a:gdLst/>
              <a:ahLst/>
              <a:rect l="l" t="t" r="r" b="b"/>
              <a:pathLst>
                <a:path w="1208" h="299">
                  <a:moveTo>
                    <a:pt x="0" y="299"/>
                  </a:moveTo>
                  <a:cubicBezTo>
                    <a:pt x="57" y="290"/>
                    <a:pt x="116" y="284"/>
                    <a:pt x="200" y="263"/>
                  </a:cubicBezTo>
                  <a:cubicBezTo>
                    <a:pt x="284" y="242"/>
                    <a:pt x="437" y="200"/>
                    <a:pt x="508" y="175"/>
                  </a:cubicBezTo>
                  <a:cubicBezTo>
                    <a:pt x="579" y="150"/>
                    <a:pt x="591" y="128"/>
                    <a:pt x="628" y="111"/>
                  </a:cubicBezTo>
                  <a:cubicBezTo>
                    <a:pt x="665" y="94"/>
                    <a:pt x="681" y="89"/>
                    <a:pt x="728" y="75"/>
                  </a:cubicBezTo>
                  <a:cubicBezTo>
                    <a:pt x="775" y="61"/>
                    <a:pt x="854" y="0"/>
                    <a:pt x="912" y="27"/>
                  </a:cubicBezTo>
                  <a:cubicBezTo>
                    <a:pt x="970" y="54"/>
                    <a:pt x="1027" y="199"/>
                    <a:pt x="1076" y="235"/>
                  </a:cubicBezTo>
                  <a:cubicBezTo>
                    <a:pt x="1125" y="271"/>
                    <a:pt x="1184" y="242"/>
                    <a:pt x="1208" y="24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901960" y="1731960"/>
              <a:ext cx="1219320" cy="2306520"/>
            </a:xfrm>
            <a:custGeom>
              <a:avLst/>
              <a:gdLst/>
              <a:ahLst/>
              <a:rect l="l" t="t" r="r" b="b"/>
              <a:pathLst>
                <a:path w="768" h="1453">
                  <a:moveTo>
                    <a:pt x="0" y="1453"/>
                  </a:moveTo>
                  <a:cubicBezTo>
                    <a:pt x="66" y="1374"/>
                    <a:pt x="133" y="1295"/>
                    <a:pt x="192" y="1181"/>
                  </a:cubicBezTo>
                  <a:cubicBezTo>
                    <a:pt x="251" y="1067"/>
                    <a:pt x="288" y="945"/>
                    <a:pt x="356" y="769"/>
                  </a:cubicBezTo>
                  <a:cubicBezTo>
                    <a:pt x="424" y="593"/>
                    <a:pt x="531" y="250"/>
                    <a:pt x="600" y="125"/>
                  </a:cubicBezTo>
                  <a:cubicBezTo>
                    <a:pt x="669" y="0"/>
                    <a:pt x="718" y="8"/>
                    <a:pt x="768" y="17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022400" y="2317680"/>
              <a:ext cx="3098880" cy="1824120"/>
            </a:xfrm>
            <a:custGeom>
              <a:avLst/>
              <a:gdLst/>
              <a:ahLst/>
              <a:rect l="l" t="t" r="r" b="b"/>
              <a:pathLst>
                <a:path w="1952" h="1149">
                  <a:moveTo>
                    <a:pt x="0" y="1140"/>
                  </a:moveTo>
                  <a:cubicBezTo>
                    <a:pt x="161" y="1128"/>
                    <a:pt x="323" y="1116"/>
                    <a:pt x="436" y="1092"/>
                  </a:cubicBezTo>
                  <a:cubicBezTo>
                    <a:pt x="549" y="1068"/>
                    <a:pt x="601" y="1026"/>
                    <a:pt x="676" y="996"/>
                  </a:cubicBezTo>
                  <a:cubicBezTo>
                    <a:pt x="751" y="966"/>
                    <a:pt x="821" y="896"/>
                    <a:pt x="888" y="912"/>
                  </a:cubicBezTo>
                  <a:cubicBezTo>
                    <a:pt x="955" y="928"/>
                    <a:pt x="1021" y="1065"/>
                    <a:pt x="1080" y="1092"/>
                  </a:cubicBezTo>
                  <a:cubicBezTo>
                    <a:pt x="1139" y="1119"/>
                    <a:pt x="1165" y="1149"/>
                    <a:pt x="1240" y="1072"/>
                  </a:cubicBezTo>
                  <a:cubicBezTo>
                    <a:pt x="1315" y="995"/>
                    <a:pt x="1458" y="756"/>
                    <a:pt x="1528" y="632"/>
                  </a:cubicBezTo>
                  <a:cubicBezTo>
                    <a:pt x="1598" y="508"/>
                    <a:pt x="1606" y="403"/>
                    <a:pt x="1660" y="328"/>
                  </a:cubicBezTo>
                  <a:cubicBezTo>
                    <a:pt x="1714" y="253"/>
                    <a:pt x="1813" y="233"/>
                    <a:pt x="1852" y="184"/>
                  </a:cubicBezTo>
                  <a:cubicBezTo>
                    <a:pt x="1891" y="135"/>
                    <a:pt x="1875" y="63"/>
                    <a:pt x="1892" y="32"/>
                  </a:cubicBezTo>
                  <a:cubicBezTo>
                    <a:pt x="1909" y="1"/>
                    <a:pt x="1930" y="0"/>
                    <a:pt x="1952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015920" y="4044960"/>
              <a:ext cx="3117960" cy="201600"/>
            </a:xfrm>
            <a:custGeom>
              <a:avLst/>
              <a:gdLst/>
              <a:ahLst/>
              <a:rect l="l" t="t" r="r" b="b"/>
              <a:pathLst>
                <a:path w="1964" h="127">
                  <a:moveTo>
                    <a:pt x="0" y="112"/>
                  </a:moveTo>
                  <a:cubicBezTo>
                    <a:pt x="462" y="119"/>
                    <a:pt x="925" y="127"/>
                    <a:pt x="1220" y="112"/>
                  </a:cubicBezTo>
                  <a:cubicBezTo>
                    <a:pt x="1515" y="97"/>
                    <a:pt x="1648" y="43"/>
                    <a:pt x="1772" y="24"/>
                  </a:cubicBezTo>
                  <a:cubicBezTo>
                    <a:pt x="1896" y="5"/>
                    <a:pt x="1930" y="2"/>
                    <a:pt x="1964" y="0"/>
                  </a:cubicBezTo>
                </a:path>
              </a:pathLst>
            </a:custGeom>
            <a:noFill/>
            <a:ln w="190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19640" y="1739880"/>
              <a:ext cx="3124440" cy="1635120"/>
            </a:xfrm>
            <a:custGeom>
              <a:avLst/>
              <a:gdLst/>
              <a:ahLst/>
              <a:rect l="l" t="t" r="r" b="b"/>
              <a:pathLst>
                <a:path w="1968" h="1030">
                  <a:moveTo>
                    <a:pt x="0" y="1016"/>
                  </a:moveTo>
                  <a:cubicBezTo>
                    <a:pt x="12" y="1023"/>
                    <a:pt x="25" y="1030"/>
                    <a:pt x="36" y="1016"/>
                  </a:cubicBezTo>
                  <a:cubicBezTo>
                    <a:pt x="47" y="1002"/>
                    <a:pt x="26" y="963"/>
                    <a:pt x="64" y="932"/>
                  </a:cubicBezTo>
                  <a:cubicBezTo>
                    <a:pt x="102" y="901"/>
                    <a:pt x="191" y="863"/>
                    <a:pt x="264" y="828"/>
                  </a:cubicBezTo>
                  <a:cubicBezTo>
                    <a:pt x="337" y="793"/>
                    <a:pt x="433" y="754"/>
                    <a:pt x="504" y="720"/>
                  </a:cubicBezTo>
                  <a:cubicBezTo>
                    <a:pt x="575" y="686"/>
                    <a:pt x="621" y="658"/>
                    <a:pt x="688" y="624"/>
                  </a:cubicBezTo>
                  <a:cubicBezTo>
                    <a:pt x="755" y="590"/>
                    <a:pt x="853" y="555"/>
                    <a:pt x="908" y="516"/>
                  </a:cubicBezTo>
                  <a:cubicBezTo>
                    <a:pt x="963" y="477"/>
                    <a:pt x="931" y="439"/>
                    <a:pt x="1016" y="392"/>
                  </a:cubicBezTo>
                  <a:cubicBezTo>
                    <a:pt x="1101" y="345"/>
                    <a:pt x="1319" y="277"/>
                    <a:pt x="1416" y="232"/>
                  </a:cubicBezTo>
                  <a:cubicBezTo>
                    <a:pt x="1513" y="187"/>
                    <a:pt x="1508" y="159"/>
                    <a:pt x="1600" y="120"/>
                  </a:cubicBezTo>
                  <a:cubicBezTo>
                    <a:pt x="1692" y="81"/>
                    <a:pt x="1830" y="40"/>
                    <a:pt x="1968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19640" y="2457360"/>
              <a:ext cx="3117960" cy="1130400"/>
            </a:xfrm>
            <a:custGeom>
              <a:avLst/>
              <a:gdLst/>
              <a:ahLst/>
              <a:rect l="l" t="t" r="r" b="b"/>
              <a:pathLst>
                <a:path w="1964" h="712">
                  <a:moveTo>
                    <a:pt x="0" y="708"/>
                  </a:moveTo>
                  <a:cubicBezTo>
                    <a:pt x="12" y="710"/>
                    <a:pt x="24" y="712"/>
                    <a:pt x="40" y="692"/>
                  </a:cubicBezTo>
                  <a:cubicBezTo>
                    <a:pt x="56" y="672"/>
                    <a:pt x="40" y="627"/>
                    <a:pt x="96" y="588"/>
                  </a:cubicBezTo>
                  <a:cubicBezTo>
                    <a:pt x="152" y="549"/>
                    <a:pt x="280" y="505"/>
                    <a:pt x="376" y="456"/>
                  </a:cubicBezTo>
                  <a:cubicBezTo>
                    <a:pt x="472" y="407"/>
                    <a:pt x="592" y="337"/>
                    <a:pt x="672" y="296"/>
                  </a:cubicBezTo>
                  <a:cubicBezTo>
                    <a:pt x="752" y="255"/>
                    <a:pt x="808" y="223"/>
                    <a:pt x="856" y="208"/>
                  </a:cubicBezTo>
                  <a:cubicBezTo>
                    <a:pt x="904" y="193"/>
                    <a:pt x="924" y="197"/>
                    <a:pt x="960" y="208"/>
                  </a:cubicBezTo>
                  <a:cubicBezTo>
                    <a:pt x="996" y="219"/>
                    <a:pt x="1019" y="262"/>
                    <a:pt x="1072" y="272"/>
                  </a:cubicBezTo>
                  <a:cubicBezTo>
                    <a:pt x="1125" y="282"/>
                    <a:pt x="1215" y="279"/>
                    <a:pt x="1280" y="268"/>
                  </a:cubicBezTo>
                  <a:cubicBezTo>
                    <a:pt x="1345" y="257"/>
                    <a:pt x="1398" y="232"/>
                    <a:pt x="1460" y="208"/>
                  </a:cubicBezTo>
                  <a:cubicBezTo>
                    <a:pt x="1522" y="184"/>
                    <a:pt x="1568" y="159"/>
                    <a:pt x="1652" y="124"/>
                  </a:cubicBezTo>
                  <a:cubicBezTo>
                    <a:pt x="1736" y="89"/>
                    <a:pt x="1850" y="44"/>
                    <a:pt x="1964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03680" y="3200400"/>
              <a:ext cx="1584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0120" y="2684520"/>
              <a:ext cx="358200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Comic Sans MS"/>
                </a:rPr>
                <a:t>Not physical dip !!!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Comic Sans MS"/>
                </a:rPr>
                <a:t>Not Used…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98760" y="3063960"/>
              <a:ext cx="930240" cy="593640"/>
            </a:xfrm>
            <a:custGeom>
              <a:avLst/>
              <a:gdLst/>
              <a:ahLst/>
              <a:rect l="l" t="t" r="r" b="b"/>
              <a:pathLst>
                <a:path w="586" h="374">
                  <a:moveTo>
                    <a:pt x="0" y="374"/>
                  </a:moveTo>
                  <a:cubicBezTo>
                    <a:pt x="32" y="368"/>
                    <a:pt x="122" y="363"/>
                    <a:pt x="192" y="336"/>
                  </a:cubicBezTo>
                  <a:cubicBezTo>
                    <a:pt x="262" y="309"/>
                    <a:pt x="365" y="251"/>
                    <a:pt x="423" y="211"/>
                  </a:cubicBezTo>
                  <a:cubicBezTo>
                    <a:pt x="481" y="171"/>
                    <a:pt x="511" y="131"/>
                    <a:pt x="538" y="96"/>
                  </a:cubicBezTo>
                  <a:cubicBezTo>
                    <a:pt x="565" y="61"/>
                    <a:pt x="576" y="25"/>
                    <a:pt x="586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56000" y="3200400"/>
              <a:ext cx="930240" cy="593640"/>
            </a:xfrm>
            <a:custGeom>
              <a:avLst/>
              <a:gdLst/>
              <a:ahLst/>
              <a:rect l="l" t="t" r="r" b="b"/>
              <a:pathLst>
                <a:path w="586" h="374">
                  <a:moveTo>
                    <a:pt x="0" y="374"/>
                  </a:moveTo>
                  <a:cubicBezTo>
                    <a:pt x="32" y="368"/>
                    <a:pt x="122" y="363"/>
                    <a:pt x="192" y="336"/>
                  </a:cubicBezTo>
                  <a:cubicBezTo>
                    <a:pt x="262" y="309"/>
                    <a:pt x="365" y="251"/>
                    <a:pt x="423" y="211"/>
                  </a:cubicBezTo>
                  <a:cubicBezTo>
                    <a:pt x="481" y="171"/>
                    <a:pt x="511" y="131"/>
                    <a:pt x="538" y="96"/>
                  </a:cubicBezTo>
                  <a:cubicBezTo>
                    <a:pt x="565" y="61"/>
                    <a:pt x="576" y="25"/>
                    <a:pt x="586" y="0"/>
                  </a:cubicBezTo>
                </a:path>
              </a:pathLst>
            </a:custGeom>
            <a:noFill/>
            <a:ln w="19080">
              <a:solidFill>
                <a:srgbClr val="0000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83720" y="4216320"/>
              <a:ext cx="17226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3.5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1640" y="4194000"/>
              <a:ext cx="17226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2.2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 rot="16200000">
            <a:off x="2939040" y="2935080"/>
            <a:ext cx="326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Tahoma"/>
              </a:rPr>
              <a:t>For 500 000 po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4520" y="6418440"/>
            <a:ext cx="26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Rate x 10</a:t>
            </a:r>
            <a:r>
              <a:rPr b="0" lang="fr-FR" sz="2000" spc="-1" strike="noStrike" baseline="30000">
                <a:solidFill>
                  <a:srgbClr val="003399"/>
                </a:solidFill>
                <a:latin typeface="Comic Sans MS"/>
              </a:rPr>
              <a:t>16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19:04:34Z</dcterms:created>
  <dc:creator>cazes</dc:creator>
  <dc:description/>
  <dc:language>en-US</dc:language>
  <cp:lastModifiedBy>J.E Campagne</cp:lastModifiedBy>
  <dcterms:modified xsi:type="dcterms:W3CDTF">2005-07-12T13:15:38Z</dcterms:modified>
  <cp:revision>153</cp:revision>
  <dc:subject/>
  <dc:title>SPL-Fréjus optimisation. </dc:title>
</cp:coreProperties>
</file>